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tif" ContentType="image/tiff"/>
  <Override PartName="/ppt/media/image44.tif" ContentType="image/tiff"/>
  <Override PartName="/ppt/media/image45.tif" ContentType="image/tiff"/>
  <Override PartName="/ppt/media/image39.png" ContentType="image/png"/>
  <Override PartName="/ppt/media/image9.png" ContentType="image/png"/>
  <Override PartName="/ppt/media/image46.tif" ContentType="image/tiff"/>
  <Override PartName="/ppt/media/image47.tif" ContentType="image/tiff"/>
  <Override PartName="/ppt/media/image48.tif" ContentType="image/tiff"/>
  <Override PartName="/ppt/media/image40.png" ContentType="image/png"/>
  <Override PartName="/ppt/media/image49.tif" ContentType="image/tiff"/>
  <Override PartName="/ppt/media/image13.png" ContentType="image/png"/>
  <Override PartName="/ppt/media/image38.png" ContentType="image/png"/>
  <Override PartName="/ppt/media/image8.png" ContentType="image/png"/>
  <Override PartName="/ppt/media/image50.tif" ContentType="image/tiff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7088E-CA07-4D5E-B692-24B9AC82C3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96C5F-9FE0-4298-8868-DD299F2B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E01AE0-99B7-4EC0-B054-931245BC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07EC73-D45B-4874-8BFC-AEAF5BB54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BC504D-74CA-4A24-9906-F38A76DFD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40F714-973A-4109-8750-8AE193FD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96127E-0D41-43A1-A177-FB5BD54C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17A353-CE92-43DB-8449-F3E91B1E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7A4B54-9CC4-435F-89FD-5E831A0E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BB9DAE-1DA0-489C-A61F-2E025AE6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B4D3EF-2C92-49BC-8BFC-8A21D99158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219E2-69F9-4403-9AC6-852B163324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3F1C2-C05B-4DEF-8670-B718CCB4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812A1-A129-44E7-9AD4-AE5D9731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09138-3255-4062-A52D-E6D1C25A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062E6-D2B7-495E-8096-48D32DE9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7D585-600B-4EC8-9802-3ECAECB0D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D65B0-482E-4440-A7A2-9A3B7F572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08099-FC27-4A87-B593-0BFFC300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70BC3-13FA-4832-B0D0-310F7200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C573D-C85E-4CB1-8AF2-199A5783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B58F7-859D-4E45-98BA-214F13EF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B13E8-A5A5-4805-809C-1562FE42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8E2D2-A7FD-4E1D-B79F-D9D92AF809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81FB5-A5E1-4AB4-9E33-41631D1340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491379-45B5-4272-95FE-2FF0F478B9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115AD1-E375-4CDD-9F99-97A15ACF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486EC8-0914-413E-8C80-2662E91A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7DC5BD-B833-484F-84CF-4D0AFA40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D9C5E3-34A8-4A4A-B09A-DD5B398C8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47CF32-B187-4008-837A-8E57085B9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92AEA6-8794-4F36-8AB6-269158B6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10CCEA-EDDC-4F6C-BE64-765C9E45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ABF859-FDA4-4100-A2D0-497C0182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BA249-1FAC-4D34-92C4-F009ACC54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605978-82CB-4139-910E-4560639E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25CD2B-CECE-494B-9344-CD59172B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5B824D-01B1-4BCD-8CB3-A7CB2F00A1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A5A40F-0301-4F08-A655-9D8E8974AE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792561-AC34-4432-BEC2-16F056C4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579CF1-F7EA-405C-A28C-C5D7C00D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99A0D2-BFE9-44EE-BEED-6345381A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B47840-2787-434F-BFAF-2DB107F19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5C7A28-34F1-44AE-A53C-41212C97B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559079-0A55-4EFD-8C21-678BBF1E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96BF76-9690-407D-8C19-5C5244C3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26F107-FA29-4782-AEE0-C9C2ED1D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093877-C941-4F7F-B9AA-6CE19FC1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3AC16E-A64F-43B2-AC95-7770A96A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E188B1-F4CF-46D4-AAD8-EFB94784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2ED1FF-89E2-44BC-9544-324252DA8B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9777E-4115-4617-B99B-1B37DBB1E2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ACB76A-85D3-4091-85FC-650EA0EC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C878C-F23D-4A1C-A8B0-6E5E5655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309F8-2F7B-4CDD-8EFB-45904A5D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AD43C0-2AEA-4D5D-9BEC-E468F5DBF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F8C2E-2ABD-49BA-8A05-FB59A84F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F9281-1091-45A6-85ED-B7351A8F7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A947C-A12A-4CE1-85FA-FE4EE676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91D02-FDC7-4BB0-86FC-2BA06DD2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CD2908-78AF-4331-BEC1-C2D06B89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71CE8-27ED-4235-809A-3858059B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436A79-6D4D-4456-B6B0-AE3CBDAE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76266-8970-4430-BFF1-9203FCC0FE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D2A7C3-ED07-4617-B1FE-89BE6F57E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4E9593-2378-4530-829F-C5536FAF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1EE460-03F0-4F5C-8455-95AB9B71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588F7-1910-40A2-82E8-C6215893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7C22AA-2B70-41DA-AEE5-9AF2EAFC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77D1B2-E9F5-454A-968C-E4D3BCC2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87A81C-8971-4B60-BADE-CDC65281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E2D8CC-9913-4029-B804-EF4E1F4B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837D2-259B-4A39-AF53-A594078C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87A82-7DDC-4D59-9CCA-9286573D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AF527-C548-461B-830B-C5BD6ED1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BBD04F-3FE6-4F5A-9912-A4F1E3F1B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0C6C10-104B-4C4B-B7AD-119CFBE7C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32F48-F546-4277-BAC9-371BABA22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CCC5C-9B9F-4A8C-A132-9F804B0A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8F233-ACDD-4028-ACF8-499F70B2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23AAF-5D0D-441E-8042-32399A6F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975E4-7357-40B3-9117-C15E2ABD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ECBA6-BC29-48F5-AFAA-9AC88641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62146-4005-4891-8C36-3C3982A3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A6931-C85E-42E6-ACA1-06AB38B3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80846-8D79-4F65-8C8A-0561C4E3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ED76F-79EA-4FC4-8031-5AB747A8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49742-1EBA-47AC-BF6F-CE948AB8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4C887-112E-436A-AE00-26DFB3338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05212-3178-467A-BDF3-8B0FF7BE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4EABA-BBAD-4DF4-B27A-F702C3865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D2A86F-D4A9-41C0-BEBC-D0421BDCE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AB5A53-62E0-4669-A4A3-0C717D35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71A3DF-5F8E-42F7-9712-68B46AE0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0604D-8A06-4075-85A5-5556EF9D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FBE97-B56E-4690-B32F-5C90A710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5B7F8D-6EFE-4E7B-A0BF-D24D05DD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6A3996-89A1-4181-9ABB-097A1EBF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886178-3801-4555-9509-280B3EA4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2B4333-00C1-4DD1-B742-75AEAF2A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6B150-32A1-4119-BA32-71ACC2B4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4D2ED0-6B3D-46EA-9136-8DBAEF92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998F60-9C7F-46E1-91F9-05A68AF55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69EB82-3712-4728-902E-3829B05A5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25F2A2-B0DB-478B-917E-C6AE6B76A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42DD19-44E2-42AB-8AA8-3601DEB6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4B2C60-DD27-4BE5-AE4D-AE5C3552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93AD76-E0CE-4F94-BD83-9ACF4716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0DE451-742B-41CF-9309-73F82FF9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52FB7E-4568-4A3C-86AC-5C6FAEB7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4B9423-3F20-4384-BA34-83EBFFF6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509BE-98F3-47A1-955D-0F1CC7E1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3C763-ED97-46FB-BEC0-10B607A9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59F6FF-4DDB-4A9D-8EEA-BD82B2E2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88F251-34E4-408A-A290-5CA56E89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21CC37-BF4B-49EB-9D8A-46B88CD6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737F18-8D39-4056-A89A-20F402CA0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A94AAD-BDE9-4B60-BF8A-E8799E2A5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B63A1C-8655-4368-8D91-605F4753F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4FD0F5-BAA2-4474-85B4-460E127B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24CF1E-FED3-4D2D-8500-1CDA7BC8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27C23B-9BA0-4E11-AC36-09E69AC8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025AE5-9BF0-4C6E-A7E6-B7F75A4A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13870-3BB0-4326-AC88-843DDA9E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29AD23-7EAA-4518-A062-4EE1809F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C59C5A-1E50-4820-97AE-40ACC709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57B16A-DE4A-48F0-A0A7-29EA6B0C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7A6589-A85F-4CCB-BBFB-44B348D9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BF1F73-FAC4-4755-9145-D6E4DCD4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A07C60-8A34-4D9E-93B1-1B09CCDFB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AEC3DA-7A64-4FD4-B382-3EBF1C279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CE627D-7B85-4150-AAC8-53D05E118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DBAB10-18D1-4795-A7A8-F0063C23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2EF0EA-40A1-4546-9CC9-1D1E1D1F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D4472-9F25-456F-A8E6-7F82A165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AF68C7-C10C-44E5-9A26-62B6E97A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FB9127-571D-4CB7-9AB8-CF12111E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DAEB6E-1397-4A94-96DD-F07E085B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638B21-39C7-4DEA-AE57-D90593C1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8466EA-F1DD-4FEA-B1E7-8697AC3B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107610-8E9E-4B5B-94E5-D8DA6A15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32BE2A-8991-4CDA-95DA-8C3C1787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325836-B8C1-4CBD-AE37-1736ED394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3965F1-794A-400A-9114-9FB94148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319DB4-9663-4F15-BB20-FD24B56D4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0531C-DC28-440A-B4A2-56C3D9246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FC89F6-6FB9-4DEC-A71E-046BAD43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FB4982-FB5F-4B41-A398-C1938DDE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B7167A-906B-426B-8B96-489436CF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79895D-9A1D-4B5A-AF7D-722642B0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69DF66-CE8A-49B0-8B55-9DAE4264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76FF7F-08A0-4582-8451-404A6BBC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F7C563-3D7A-4008-A9CF-1FEEA7AD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42D634-8845-45BE-91C9-C21A3972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7A98E0-090E-4850-B639-6110C128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07E9D5-3B71-4170-89CB-5CC12E122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B8710-055E-4FBA-BEB1-861859C9D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E1639B-8230-4423-BBAE-5AA4E1C34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B5FF32-8236-4D5A-9F5C-5F51BB933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F9060E-677D-4817-A1D1-09A3BAE2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CD7A3A-C44E-4BE4-8867-8B09F4BA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0D7F54-9110-4348-8C05-087FA506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BCF2A0-8F5D-476D-8403-BA860582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560D81-A3C9-46DD-AF45-A9939B5B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9ACF2E-5027-4FE4-88C2-CBB60D38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A65657-690B-4607-8E43-B32E4F00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865CFF-DB44-43A6-B9A9-84910C3C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466228-197B-4C83-B3AA-D292F3B703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2A9597-AD62-4592-9269-5C22F844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AFD968-E5FA-43ED-8AC2-AAC006072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485D88-35C3-4897-B2F0-46A6B4E37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7A52F7-C3B8-4861-BDEB-B1804262F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992252-7AA2-4D45-914F-AEBB51BB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74D219-5857-40C9-8340-B443A019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3C7305-8D83-439D-87FB-397C276C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F3D75E-F7CF-45EE-9A4D-DC00D2B1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9B6227-9666-4876-9E51-36C7D03C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21AB8A-88B3-441D-8085-8F347833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ACF145-8B6A-46DC-AD43-43C07B5F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27E4A3-B375-4FE2-B82D-B892D0FE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5C7031-D3CD-4A60-82B1-06B6CA05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7C3C19-FE32-466C-8265-2CACCF00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E298C8-F327-4347-A331-BCFDC5FEF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D15E70-097C-4504-9E67-13CFBC13B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39BD06-56C4-4122-9DBE-CFE5E258B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B6FC3F-C293-4F45-A104-D570E3A1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AA898E-81D1-4D01-B6E5-AD20FE4E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31448D-6B45-4720-B0A3-716EBE65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F16198-019E-4D3D-ABE7-1F4E8D61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0B5AFB-3198-4500-A845-17823A9A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E006FB-C433-41F7-A7F3-4A1EF6A1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B0A1AE-1F09-4740-9261-0332CD56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5CE84F-FCD9-4741-A5BA-B20E35E9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C15EDC-C435-40F9-9BB5-ED3A7A79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59B693-4CC6-4564-98D0-5A4817EE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6AD041-F14E-4F54-9678-737257518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B07B25-2D78-4839-AFB9-A1CC2800C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B6B370-4FAE-4E2A-8916-E7AF8A75C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759225-A3D6-4E53-A9A4-EA958C3B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A5C712-102D-4E3C-9A7A-5463F3AE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BFCF17-ACF6-443C-9C63-EA869EFA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356F8E-4711-48BE-8D51-403E0B94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9CDE5E-F0A2-4AE1-B57B-AD15FB50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AFE108-23F0-4E8F-A9CA-4BD4411D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548D84-6EA0-4B45-A151-43D339EE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371707-81F9-42C3-867F-58FD7247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2B36C6-891E-4D4A-B0F8-E9B5CA3A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9E5205-3B10-4788-BE12-AC670926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04A953-A658-43D7-8505-5099DB29D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EBB12D-B91C-4AFB-8FB0-3B76E5041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2E0C96-AC13-43FE-B537-060FBA63F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8DC43-B787-45F0-9EE2-AD3604C9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FF1BAF-B1C9-4C55-B832-F3694D71C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8F53D7-13B2-4EF0-A365-20E35A88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8610CA-6883-4E49-B702-DF17B3E0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89E615-84F0-4C44-BD4C-E0119999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89518B-4827-450B-BB25-0E40A518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F90592-3FE0-4B37-8E5A-B23FE4F3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E6FFF2-939E-4D46-A6AF-77158C9DFF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6D58A-5C09-4F78-A0E2-56A33F0BDF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BDAFB-D2C4-4DED-861B-54B24110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96523-25E1-4951-AAD7-884A9779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620D8-B920-451C-85DC-27C9440A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A2B5D-1665-4392-82EB-668A679A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B9D8C-73DC-4CAD-8625-EDD0D4499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71D24-C73C-4E86-836A-B6133B1B1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45913-35CC-4B1A-A5B4-F1B667B9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CA402-FEB6-4B53-8B36-12C7ADA7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9FFFC-B62B-46FF-B5E6-AF1ED681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7AFB6-6CC5-43A4-9FB2-DB52E3FC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F9E5E-7447-4CDB-BF69-85ED5452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EF9BF-2102-462D-90C6-3465DFAB97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41B53C-876C-4867-A6D1-E69372D99A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88117-0104-4F66-B0C0-D54BCB8AE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62B02E-0288-4004-9DB7-D50A8EFF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3533F9-D339-4AD9-8160-5FBAAB94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420B12-1D3D-4B01-A90D-7EEDA954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7E9BCB-0FE8-4F98-A3D5-692BBE53D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F32965-9A5F-48CE-B87E-61573CA67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746D14-1786-4671-A2EA-8953C1A6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D92838-AB2A-43C8-96BC-AD97CB20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9F6B01-3030-4A48-9EDF-3466D82B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AB383F-3551-4EE9-B5C5-F9E0CCCD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2DC964-2F0A-4BF5-814B-79AC0031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D7C39-743A-4A84-8CE7-97A6D46D0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EBF3E1-6ADE-4A79-8558-92B2DB03C0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4221D6-0023-4C62-9D16-641074F4D6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0E63F2-CA07-4B2D-9456-D1F5FD87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0615A3-25FE-44C7-BE3D-DC6C3D56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BA302A-482B-44EF-81A3-BACD11A6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8877A2-4AD2-48FB-B87C-6CB0E008B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B8945B-45DE-4069-8031-66E61376B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0DDBF3-2AFB-42D2-AB6D-C6C98EF1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3DAA0D-D754-4FEB-A814-46BB9C3A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85360B-42F4-45CD-A467-E4CFE0EC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D913A-76BE-4941-893D-8CCA4DBE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92E9DC-9A5C-4DA3-B586-D89912CA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BF49E2-C185-43A3-A087-A9F3FE79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1A234C-E979-4FA3-B516-2FDE57A135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E5FE5-DDD5-49D9-B5B3-7C0CBDA534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8A19A-D0ED-4E5F-8405-269B37AC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93D54-71E1-40EF-8C38-ABADE8D1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9B2F7-C1F9-44D5-8DCB-9BA60998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1CE52-D606-43A2-9455-6C4ECA1D3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D350F-79DF-4F0B-B7E6-139AC7E36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93849-9659-4BD7-B320-76EB5B3B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6EECE-0E8E-4648-9DEA-B4DA24D0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11B34-AC9F-45DF-8649-7E599948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A921B-B016-4AB6-849E-1FADC9AE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AD259-A730-4654-B45E-D8BE43A5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F0A0D-AED0-420F-BA60-946E19BA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55B57-AA75-4F09-9306-15CDF5EFA1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BD9A3E-8FD9-4374-ABBC-1BA02C09DB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B60CA6-45AA-4B6C-9AC3-46BF974C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A9B776-CCDF-4750-A2C3-C5791348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F98F88-98C0-45F2-8149-0DDAD4EF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3D405C-8DB5-4EE6-A10F-0597F15D5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9AF07-C4F2-4330-8F2C-E830DBCB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A61D37-9386-401F-B802-0367EAB2F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7FC60D-4E19-4C31-B566-A6BD6AB7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36AA41-D136-474C-AFAF-ABFCCF87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3BDC52-D8D3-4170-95CE-3555D2E1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C115AF-CB73-4F26-B791-D96E0171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B2B3F2-43A7-451F-9395-E13122C2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43E021-72C0-4E8C-B37A-A2ED90429E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DF90AB-6BA0-4596-8B56-CDFA7DD1E7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5AF76B-DDC3-461E-B0EB-136A899E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FF5F60-D273-4C69-975F-F3DBB76F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0F40-7493-4014-8C1F-441F2A4F1EB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9222-8ECB-4243-B032-7EA88871160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7CC6-F4CC-41C9-A663-626B31B49AE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7B51-8716-4932-B53A-A0FF6E552DF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A2F9-6B65-4069-AAC3-F62478C8EC9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9E90-9412-4269-B289-C45EE4D71AE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4E9F-B879-4829-9F74-EC0B0306E50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A743-174A-4579-89BE-58F2CE35F92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EB8F-A556-46C8-B02B-5C1B7492780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C75A-2568-41AE-9346-CF2794EE168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C73F-606E-4254-8118-C59506FBB93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43FD-B1B7-42ED-AB3C-58FD235F977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6D59-7C52-4A6E-A4F6-8BD0A6FEA0A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3ABB-37A2-48A4-8D43-20EC42704C7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1282-36A4-4163-B61E-C754EA0C9F4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573C-9621-4CB0-8159-F62EC03C96A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4EC2-A4F3-4776-8FC8-4C874F3ABE9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A9BF-9B8F-41DC-B036-C9EBD308646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1B14-F06C-44F1-A545-D9361867D52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5888-3A88-4288-854E-1D4955249AC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E631-4D2F-42B3-BEFA-20B1EF5B43B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2C48-C9B8-4D80-A317-5F502E93766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0EBA-2573-4B9E-918F-5080B0C1ABC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C4AB-4C40-47B2-90B6-36625582903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43.tif"/><Relationship Id="rId9" Type="http://schemas.openxmlformats.org/officeDocument/2006/relationships/image" Target="../media/image44.tif"/><Relationship Id="rId10" Type="http://schemas.openxmlformats.org/officeDocument/2006/relationships/image" Target="../media/image45.tif"/><Relationship Id="rId11" Type="http://schemas.openxmlformats.org/officeDocument/2006/relationships/image" Target="../media/image45.tif"/><Relationship Id="rId12" Type="http://schemas.openxmlformats.org/officeDocument/2006/relationships/image" Target="../media/image45.tif"/><Relationship Id="rId13" Type="http://schemas.openxmlformats.org/officeDocument/2006/relationships/image" Target="../media/image44.tif"/><Relationship Id="rId14" Type="http://schemas.openxmlformats.org/officeDocument/2006/relationships/image" Target="../media/image46.tif"/><Relationship Id="rId15" Type="http://schemas.openxmlformats.org/officeDocument/2006/relationships/image" Target="../media/image47.tif"/><Relationship Id="rId16" Type="http://schemas.openxmlformats.org/officeDocument/2006/relationships/image" Target="../media/image48.tif"/><Relationship Id="rId17" Type="http://schemas.openxmlformats.org/officeDocument/2006/relationships/image" Target="../media/image49.tif"/><Relationship Id="rId18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50.tif"/><Relationship Id="rId9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2.png"/><Relationship Id="rId17" Type="http://schemas.openxmlformats.org/officeDocument/2006/relationships/image" Target="../media/image22.png"/><Relationship Id="rId18" Type="http://schemas.openxmlformats.org/officeDocument/2006/relationships/image" Target="../media/image22.png"/><Relationship Id="rId19" Type="http://schemas.openxmlformats.org/officeDocument/2006/relationships/image" Target="../media/image22.png"/><Relationship Id="rId20" Type="http://schemas.openxmlformats.org/officeDocument/2006/relationships/image" Target="../media/image22.png"/><Relationship Id="rId21" Type="http://schemas.openxmlformats.org/officeDocument/2006/relationships/image" Target="../media/image22.png"/><Relationship Id="rId22" Type="http://schemas.openxmlformats.org/officeDocument/2006/relationships/image" Target="../media/image22.png"/><Relationship Id="rId23" Type="http://schemas.openxmlformats.org/officeDocument/2006/relationships/image" Target="../media/image22.png"/><Relationship Id="rId24" Type="http://schemas.openxmlformats.org/officeDocument/2006/relationships/image" Target="../media/image11.png"/><Relationship Id="rId25" Type="http://schemas.openxmlformats.org/officeDocument/2006/relationships/image" Target="../media/image23.png"/><Relationship Id="rId26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21.jpe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23.png"/><Relationship Id="rId9" Type="http://schemas.openxmlformats.org/officeDocument/2006/relationships/image" Target="../media/image39.png"/><Relationship Id="rId10" Type="http://schemas.openxmlformats.org/officeDocument/2006/relationships/image" Target="../media/image40.png"/><Relationship Id="rId11" Type="http://schemas.openxmlformats.org/officeDocument/2006/relationships/image" Target="../media/image41.png"/><Relationship Id="rId1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"/>
          <p:cNvGrpSpPr/>
          <p:nvPr/>
        </p:nvGrpSpPr>
        <p:grpSpPr>
          <a:xfrm>
            <a:off x="2284560" y="2448000"/>
            <a:ext cx="4333680" cy="360"/>
            <a:chOff x="2284560" y="2448000"/>
            <a:chExt cx="4333680" cy="360"/>
          </a:xfrm>
        </p:grpSpPr>
        <p:sp>
          <p:nvSpPr>
            <p:cNvPr id="987" name="Line 10"/>
            <p:cNvSpPr/>
            <p:nvPr/>
          </p:nvSpPr>
          <p:spPr>
            <a:xfrm>
              <a:off x="2284560" y="2448000"/>
              <a:ext cx="43336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 txBox="1"/>
            <p:nvPr/>
          </p:nvSpPr>
          <p:spPr>
            <a:xfrm>
              <a:off x="2284560" y="2448000"/>
              <a:ext cx="4333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9"/>
          <p:cNvSpPr/>
          <p:nvPr/>
        </p:nvSpPr>
        <p:spPr>
          <a:xfrm>
            <a:off x="-146160" y="1744560"/>
            <a:ext cx="62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 的 认 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5"/>
          <p:cNvSpPr/>
          <p:nvPr/>
        </p:nvSpPr>
        <p:spPr>
          <a:xfrm>
            <a:off x="2898720" y="271620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6"/>
          <p:cNvSpPr/>
          <p:nvPr/>
        </p:nvSpPr>
        <p:spPr>
          <a:xfrm>
            <a:off x="2355840" y="2666880"/>
            <a:ext cx="6513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倍 的 认 识（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三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6" name="组合 2"/>
          <p:cNvGrpSpPr/>
          <p:nvPr/>
        </p:nvGrpSpPr>
        <p:grpSpPr>
          <a:xfrm>
            <a:off x="0" y="101520"/>
            <a:ext cx="2790720" cy="525600"/>
            <a:chOff x="0" y="101520"/>
            <a:chExt cx="2790720" cy="525600"/>
          </a:xfrm>
        </p:grpSpPr>
        <p:pic>
          <p:nvPicPr>
            <p:cNvPr id="1267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25640" y="101520"/>
              <a:ext cx="266508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68" name="组合 4"/>
            <p:cNvGrpSpPr/>
            <p:nvPr/>
          </p:nvGrpSpPr>
          <p:grpSpPr>
            <a:xfrm>
              <a:off x="0" y="197280"/>
              <a:ext cx="368280" cy="272160"/>
              <a:chOff x="0" y="197280"/>
              <a:chExt cx="368280" cy="272160"/>
            </a:xfrm>
          </p:grpSpPr>
          <p:sp>
            <p:nvSpPr>
              <p:cNvPr id="1269" name="椭圆 11"/>
              <p:cNvSpPr/>
              <p:nvPr/>
            </p:nvSpPr>
            <p:spPr>
              <a:xfrm rot="16200000">
                <a:off x="229680" y="363600"/>
                <a:ext cx="9504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0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167040" y="339480"/>
                <a:ext cx="201240" cy="12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1" name="椭圆 29"/>
              <p:cNvSpPr/>
              <p:nvPr/>
            </p:nvSpPr>
            <p:spPr>
              <a:xfrm rot="16200000">
                <a:off x="229680" y="241560"/>
                <a:ext cx="9504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2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67040" y="213480"/>
                <a:ext cx="201240" cy="12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3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57840"/>
                <a:ext cx="29736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4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26160"/>
                <a:ext cx="29736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5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8600"/>
                <a:ext cx="29736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6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297360" cy="111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77" name="圆角矩形 3"/>
          <p:cNvSpPr/>
          <p:nvPr/>
        </p:nvSpPr>
        <p:spPr>
          <a:xfrm>
            <a:off x="542880" y="49320"/>
            <a:ext cx="2071800" cy="714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文本框 1"/>
          <p:cNvSpPr/>
          <p:nvPr/>
        </p:nvSpPr>
        <p:spPr>
          <a:xfrm>
            <a:off x="636480" y="885960"/>
            <a:ext cx="804096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育才小学音乐团，合唱的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，演奏乐器的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，跳舞的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文本框 3"/>
          <p:cNvSpPr/>
          <p:nvPr/>
        </p:nvSpPr>
        <p:spPr>
          <a:xfrm>
            <a:off x="636480" y="2060640"/>
            <a:ext cx="715176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合唱的人数是演奏乐器的几倍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文本框 4"/>
          <p:cNvSpPr/>
          <p:nvPr/>
        </p:nvSpPr>
        <p:spPr>
          <a:xfrm>
            <a:off x="733320" y="3930480"/>
            <a:ext cx="715032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演奏乐器的人数是跳舞的几倍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文本框 15"/>
          <p:cNvSpPr/>
          <p:nvPr/>
        </p:nvSpPr>
        <p:spPr>
          <a:xfrm>
            <a:off x="1832040" y="2741760"/>
            <a:ext cx="169524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4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÷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文本框 5"/>
          <p:cNvSpPr/>
          <p:nvPr/>
        </p:nvSpPr>
        <p:spPr>
          <a:xfrm>
            <a:off x="1832040" y="4761000"/>
            <a:ext cx="169524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÷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文本框 6"/>
          <p:cNvSpPr/>
          <p:nvPr/>
        </p:nvSpPr>
        <p:spPr>
          <a:xfrm>
            <a:off x="1090440" y="3557520"/>
            <a:ext cx="5045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答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合唱的人数是演奏乐器的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文本框 7"/>
          <p:cNvSpPr/>
          <p:nvPr/>
        </p:nvSpPr>
        <p:spPr>
          <a:xfrm>
            <a:off x="1176480" y="5576760"/>
            <a:ext cx="50450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答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演奏乐器的人数是跳舞的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5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86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87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288" name="椭圆 1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89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9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4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96" name="文本框 99"/>
          <p:cNvSpPr/>
          <p:nvPr/>
        </p:nvSpPr>
        <p:spPr>
          <a:xfrm>
            <a:off x="179280" y="72540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7" name="图片 1073742912" descr="TBRJ-1"/>
          <p:cNvPicPr/>
          <p:nvPr/>
        </p:nvPicPr>
        <p:blipFill>
          <a:blip r:embed="rId8"/>
          <a:stretch/>
        </p:blipFill>
        <p:spPr>
          <a:xfrm>
            <a:off x="858960" y="1244520"/>
            <a:ext cx="2273040" cy="625680"/>
          </a:xfrm>
          <a:prstGeom prst="rect">
            <a:avLst/>
          </a:prstGeom>
          <a:ln w="0">
            <a:noFill/>
          </a:ln>
        </p:spPr>
      </p:pic>
      <p:sp>
        <p:nvSpPr>
          <p:cNvPr id="1298" name="文本框 1"/>
          <p:cNvSpPr/>
          <p:nvPr/>
        </p:nvSpPr>
        <p:spPr>
          <a:xfrm>
            <a:off x="365040" y="1046160"/>
            <a:ext cx="3812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9" name="图片 1073742913" descr="TBRJ-1A"/>
          <p:cNvPicPr/>
          <p:nvPr/>
        </p:nvPicPr>
        <p:blipFill>
          <a:blip r:embed="rId9"/>
          <a:stretch/>
        </p:blipFill>
        <p:spPr>
          <a:xfrm>
            <a:off x="858960" y="2054160"/>
            <a:ext cx="350640" cy="266760"/>
          </a:xfrm>
          <a:prstGeom prst="rect">
            <a:avLst/>
          </a:prstGeom>
          <a:ln w="0">
            <a:noFill/>
          </a:ln>
        </p:spPr>
      </p:pic>
      <p:pic>
        <p:nvPicPr>
          <p:cNvPr id="1300" name="图片 1073742915" descr="TBRJ-1B"/>
          <p:cNvPicPr/>
          <p:nvPr/>
        </p:nvPicPr>
        <p:blipFill>
          <a:blip r:embed="rId10"/>
          <a:stretch/>
        </p:blipFill>
        <p:spPr>
          <a:xfrm>
            <a:off x="858960" y="2494080"/>
            <a:ext cx="269640" cy="250560"/>
          </a:xfrm>
          <a:prstGeom prst="rect">
            <a:avLst/>
          </a:prstGeom>
          <a:ln w="0">
            <a:noFill/>
          </a:ln>
        </p:spPr>
      </p:pic>
      <p:pic>
        <p:nvPicPr>
          <p:cNvPr id="1301" name="图片 1073742916" descr="TBRJ-1B"/>
          <p:cNvPicPr/>
          <p:nvPr/>
        </p:nvPicPr>
        <p:blipFill>
          <a:blip r:embed="rId11"/>
          <a:stretch/>
        </p:blipFill>
        <p:spPr>
          <a:xfrm>
            <a:off x="858960" y="2994120"/>
            <a:ext cx="269640" cy="250560"/>
          </a:xfrm>
          <a:prstGeom prst="rect">
            <a:avLst/>
          </a:prstGeom>
          <a:ln w="0">
            <a:noFill/>
          </a:ln>
        </p:spPr>
      </p:pic>
      <p:pic>
        <p:nvPicPr>
          <p:cNvPr id="1302" name="图片 1073742914" descr="TBRJ-1B"/>
          <p:cNvPicPr/>
          <p:nvPr/>
        </p:nvPicPr>
        <p:blipFill>
          <a:blip r:embed="rId12"/>
          <a:stretch/>
        </p:blipFill>
        <p:spPr>
          <a:xfrm>
            <a:off x="2220840" y="2054160"/>
            <a:ext cx="271440" cy="250920"/>
          </a:xfrm>
          <a:prstGeom prst="rect">
            <a:avLst/>
          </a:prstGeom>
          <a:ln w="0">
            <a:noFill/>
          </a:ln>
        </p:spPr>
      </p:pic>
      <p:sp>
        <p:nvSpPr>
          <p:cNvPr id="1303" name="文本框 5"/>
          <p:cNvSpPr/>
          <p:nvPr/>
        </p:nvSpPr>
        <p:spPr>
          <a:xfrm>
            <a:off x="1209600" y="1917720"/>
            <a:ext cx="1138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文本框 6"/>
          <p:cNvSpPr/>
          <p:nvPr/>
        </p:nvSpPr>
        <p:spPr>
          <a:xfrm>
            <a:off x="2670120" y="1987560"/>
            <a:ext cx="2390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有（    ）个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文本框 7"/>
          <p:cNvSpPr/>
          <p:nvPr/>
        </p:nvSpPr>
        <p:spPr>
          <a:xfrm>
            <a:off x="1130400" y="2335320"/>
            <a:ext cx="406548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总数里面有（     ）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文本框 8"/>
          <p:cNvSpPr/>
          <p:nvPr/>
        </p:nvSpPr>
        <p:spPr>
          <a:xfrm>
            <a:off x="1209600" y="2963880"/>
            <a:ext cx="1660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个数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7" name="图片 1073742917" descr="TBRJ-1A"/>
          <p:cNvPicPr/>
          <p:nvPr/>
        </p:nvPicPr>
        <p:blipFill>
          <a:blip r:embed="rId13"/>
          <a:stretch/>
        </p:blipFill>
        <p:spPr>
          <a:xfrm>
            <a:off x="2544840" y="2994120"/>
            <a:ext cx="350640" cy="266760"/>
          </a:xfrm>
          <a:prstGeom prst="rect">
            <a:avLst/>
          </a:prstGeom>
          <a:ln w="0">
            <a:noFill/>
          </a:ln>
        </p:spPr>
      </p:pic>
      <p:sp>
        <p:nvSpPr>
          <p:cNvPr id="1308" name="文本框 10"/>
          <p:cNvSpPr/>
          <p:nvPr/>
        </p:nvSpPr>
        <p:spPr>
          <a:xfrm>
            <a:off x="2994120" y="2744640"/>
            <a:ext cx="271944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（     ）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文本框 14"/>
          <p:cNvSpPr/>
          <p:nvPr/>
        </p:nvSpPr>
        <p:spPr>
          <a:xfrm>
            <a:off x="365040" y="3244680"/>
            <a:ext cx="381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0" name="图片 1073742918" descr="TBRJ-2"/>
          <p:cNvPicPr/>
          <p:nvPr/>
        </p:nvPicPr>
        <p:blipFill>
          <a:blip r:embed="rId14"/>
          <a:stretch/>
        </p:blipFill>
        <p:spPr>
          <a:xfrm>
            <a:off x="858960" y="3429000"/>
            <a:ext cx="3051000" cy="544680"/>
          </a:xfrm>
          <a:prstGeom prst="rect">
            <a:avLst/>
          </a:prstGeom>
          <a:ln w="0">
            <a:noFill/>
          </a:ln>
        </p:spPr>
      </p:pic>
      <p:sp>
        <p:nvSpPr>
          <p:cNvPr id="1311" name="文本框 15"/>
          <p:cNvSpPr/>
          <p:nvPr/>
        </p:nvSpPr>
        <p:spPr>
          <a:xfrm>
            <a:off x="858960" y="3973680"/>
            <a:ext cx="39463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里面有（     ）个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2" name="图片 1073742919" descr="TBRJ-2A"/>
          <p:cNvPicPr/>
          <p:nvPr/>
        </p:nvPicPr>
        <p:blipFill>
          <a:blip r:embed="rId15"/>
          <a:stretch/>
        </p:blipFill>
        <p:spPr>
          <a:xfrm>
            <a:off x="879480" y="4627440"/>
            <a:ext cx="307800" cy="225720"/>
          </a:xfrm>
          <a:prstGeom prst="rect">
            <a:avLst/>
          </a:prstGeom>
          <a:ln w="0">
            <a:noFill/>
          </a:ln>
        </p:spPr>
      </p:pic>
      <p:sp>
        <p:nvSpPr>
          <p:cNvPr id="1313" name="文本框 16"/>
          <p:cNvSpPr/>
          <p:nvPr/>
        </p:nvSpPr>
        <p:spPr>
          <a:xfrm>
            <a:off x="1285920" y="4565520"/>
            <a:ext cx="1708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个数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4" name="图片 1073742920" descr="TBRJ-2B"/>
          <p:cNvPicPr/>
          <p:nvPr/>
        </p:nvPicPr>
        <p:blipFill>
          <a:blip r:embed="rId16"/>
          <a:stretch/>
        </p:blipFill>
        <p:spPr>
          <a:xfrm>
            <a:off x="2544840" y="4638600"/>
            <a:ext cx="242640" cy="214560"/>
          </a:xfrm>
          <a:prstGeom prst="rect">
            <a:avLst/>
          </a:prstGeom>
          <a:ln w="0">
            <a:noFill/>
          </a:ln>
        </p:spPr>
      </p:pic>
      <p:sp>
        <p:nvSpPr>
          <p:cNvPr id="1315" name="文本框 17"/>
          <p:cNvSpPr/>
          <p:nvPr/>
        </p:nvSpPr>
        <p:spPr>
          <a:xfrm>
            <a:off x="2994120" y="4565520"/>
            <a:ext cx="260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（     ）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文本框 18"/>
          <p:cNvSpPr/>
          <p:nvPr/>
        </p:nvSpPr>
        <p:spPr>
          <a:xfrm>
            <a:off x="441360" y="4853160"/>
            <a:ext cx="3808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7" name="图片 1073742921" descr="TBRJ-3"/>
          <p:cNvPicPr/>
          <p:nvPr/>
        </p:nvPicPr>
        <p:blipFill>
          <a:blip r:embed="rId17"/>
          <a:stretch/>
        </p:blipFill>
        <p:spPr>
          <a:xfrm>
            <a:off x="890640" y="5100480"/>
            <a:ext cx="2933640" cy="341640"/>
          </a:xfrm>
          <a:prstGeom prst="rect">
            <a:avLst/>
          </a:prstGeom>
          <a:ln w="0">
            <a:noFill/>
          </a:ln>
        </p:spPr>
      </p:pic>
      <p:sp>
        <p:nvSpPr>
          <p:cNvPr id="1318" name="文本框 19"/>
          <p:cNvSpPr/>
          <p:nvPr/>
        </p:nvSpPr>
        <p:spPr>
          <a:xfrm>
            <a:off x="746280" y="5622840"/>
            <a:ext cx="5219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绿带子的长度是红带子的（     ）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文本框 1"/>
          <p:cNvSpPr/>
          <p:nvPr/>
        </p:nvSpPr>
        <p:spPr>
          <a:xfrm>
            <a:off x="3244680" y="1758960"/>
            <a:ext cx="47628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文本框 3"/>
          <p:cNvSpPr/>
          <p:nvPr/>
        </p:nvSpPr>
        <p:spPr>
          <a:xfrm>
            <a:off x="3117960" y="2259000"/>
            <a:ext cx="47628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文本框 4"/>
          <p:cNvSpPr/>
          <p:nvPr/>
        </p:nvSpPr>
        <p:spPr>
          <a:xfrm>
            <a:off x="3627360" y="2759040"/>
            <a:ext cx="4762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文本框 5"/>
          <p:cNvSpPr/>
          <p:nvPr/>
        </p:nvSpPr>
        <p:spPr>
          <a:xfrm>
            <a:off x="2220840" y="3892680"/>
            <a:ext cx="47484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文本框 6"/>
          <p:cNvSpPr/>
          <p:nvPr/>
        </p:nvSpPr>
        <p:spPr>
          <a:xfrm>
            <a:off x="3720960" y="4371840"/>
            <a:ext cx="4748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文本框 7"/>
          <p:cNvSpPr/>
          <p:nvPr/>
        </p:nvSpPr>
        <p:spPr>
          <a:xfrm>
            <a:off x="4059360" y="5510160"/>
            <a:ext cx="47628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5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326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27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328" name="椭圆 1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29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0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3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4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36" name="文本框 100"/>
          <p:cNvSpPr/>
          <p:nvPr/>
        </p:nvSpPr>
        <p:spPr>
          <a:xfrm>
            <a:off x="279360" y="71604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画一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文本框 1"/>
          <p:cNvSpPr/>
          <p:nvPr/>
        </p:nvSpPr>
        <p:spPr>
          <a:xfrm>
            <a:off x="934920" y="1365120"/>
            <a:ext cx="15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一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文本框 3"/>
          <p:cNvSpPr/>
          <p:nvPr/>
        </p:nvSpPr>
        <p:spPr>
          <a:xfrm>
            <a:off x="2682720" y="136512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○○○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文本框 4"/>
          <p:cNvSpPr/>
          <p:nvPr/>
        </p:nvSpPr>
        <p:spPr>
          <a:xfrm>
            <a:off x="851040" y="2014560"/>
            <a:ext cx="2011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二行：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文本框 5"/>
          <p:cNvSpPr/>
          <p:nvPr/>
        </p:nvSpPr>
        <p:spPr>
          <a:xfrm>
            <a:off x="2841480" y="2065320"/>
            <a:ext cx="31705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直接连接符 6"/>
          <p:cNvSpPr/>
          <p:nvPr/>
        </p:nvSpPr>
        <p:spPr>
          <a:xfrm>
            <a:off x="2841480" y="2421000"/>
            <a:ext cx="31705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文本框 7"/>
          <p:cNvSpPr/>
          <p:nvPr/>
        </p:nvSpPr>
        <p:spPr>
          <a:xfrm>
            <a:off x="1077840" y="2587680"/>
            <a:ext cx="77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第二行画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使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个数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，第二行画（     ）个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文本框 9"/>
          <p:cNvSpPr/>
          <p:nvPr/>
        </p:nvSpPr>
        <p:spPr>
          <a:xfrm>
            <a:off x="1077840" y="3616200"/>
            <a:ext cx="15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一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文本框 10"/>
          <p:cNvSpPr/>
          <p:nvPr/>
        </p:nvSpPr>
        <p:spPr>
          <a:xfrm>
            <a:off x="934920" y="4059360"/>
            <a:ext cx="2011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二行：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文本框 15"/>
          <p:cNvSpPr/>
          <p:nvPr/>
        </p:nvSpPr>
        <p:spPr>
          <a:xfrm>
            <a:off x="2776680" y="4059360"/>
            <a:ext cx="20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△△△△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文本框 16"/>
          <p:cNvSpPr/>
          <p:nvPr/>
        </p:nvSpPr>
        <p:spPr>
          <a:xfrm>
            <a:off x="1332000" y="4678200"/>
            <a:ext cx="13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三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直接连接符 17"/>
          <p:cNvSpPr/>
          <p:nvPr/>
        </p:nvSpPr>
        <p:spPr>
          <a:xfrm flipV="1">
            <a:off x="2776680" y="5013000"/>
            <a:ext cx="5035320" cy="44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文本框 18"/>
          <p:cNvSpPr/>
          <p:nvPr/>
        </p:nvSpPr>
        <p:spPr>
          <a:xfrm>
            <a:off x="1179360" y="5286240"/>
            <a:ext cx="785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第一行画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使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个数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画（    ）个。在第三行画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□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使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□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个数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□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画（    ）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9" name="组合 17"/>
          <p:cNvGrpSpPr/>
          <p:nvPr/>
        </p:nvGrpSpPr>
        <p:grpSpPr>
          <a:xfrm>
            <a:off x="2923920" y="1758960"/>
            <a:ext cx="2762280" cy="665280"/>
            <a:chOff x="2923920" y="1758960"/>
            <a:chExt cx="2762280" cy="665280"/>
          </a:xfrm>
        </p:grpSpPr>
        <p:sp>
          <p:nvSpPr>
            <p:cNvPr id="1350" name="文本框 6"/>
            <p:cNvSpPr/>
            <p:nvPr/>
          </p:nvSpPr>
          <p:spPr>
            <a:xfrm>
              <a:off x="4483440" y="1758960"/>
              <a:ext cx="4244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△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文本框 8"/>
            <p:cNvSpPr/>
            <p:nvPr/>
          </p:nvSpPr>
          <p:spPr>
            <a:xfrm>
              <a:off x="5022360" y="1758960"/>
              <a:ext cx="4244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△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文本框 9"/>
            <p:cNvSpPr/>
            <p:nvPr/>
          </p:nvSpPr>
          <p:spPr>
            <a:xfrm>
              <a:off x="5261760" y="1758960"/>
              <a:ext cx="4244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△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文本框 10"/>
            <p:cNvSpPr/>
            <p:nvPr/>
          </p:nvSpPr>
          <p:spPr>
            <a:xfrm>
              <a:off x="2923920" y="1758960"/>
              <a:ext cx="4244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△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文本框 13"/>
            <p:cNvSpPr/>
            <p:nvPr/>
          </p:nvSpPr>
          <p:spPr>
            <a:xfrm>
              <a:off x="3314160" y="1758960"/>
              <a:ext cx="4244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△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文本框 14"/>
            <p:cNvSpPr/>
            <p:nvPr/>
          </p:nvSpPr>
          <p:spPr>
            <a:xfrm>
              <a:off x="3648240" y="1758960"/>
              <a:ext cx="4244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△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文本框 15"/>
            <p:cNvSpPr/>
            <p:nvPr/>
          </p:nvSpPr>
          <p:spPr>
            <a:xfrm>
              <a:off x="4027320" y="1758960"/>
              <a:ext cx="4244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△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文本框 16"/>
            <p:cNvSpPr/>
            <p:nvPr/>
          </p:nvSpPr>
          <p:spPr>
            <a:xfrm>
              <a:off x="4757760" y="1758960"/>
              <a:ext cx="4244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△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8" name="文本框 18"/>
          <p:cNvSpPr/>
          <p:nvPr/>
        </p:nvSpPr>
        <p:spPr>
          <a:xfrm>
            <a:off x="1703520" y="2790720"/>
            <a:ext cx="47448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直接连接符 46"/>
          <p:cNvSpPr/>
          <p:nvPr/>
        </p:nvSpPr>
        <p:spPr>
          <a:xfrm>
            <a:off x="2682720" y="3971880"/>
            <a:ext cx="51152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0" name="组合 73"/>
          <p:cNvGrpSpPr/>
          <p:nvPr/>
        </p:nvGrpSpPr>
        <p:grpSpPr>
          <a:xfrm>
            <a:off x="2782440" y="3397320"/>
            <a:ext cx="4839120" cy="678960"/>
            <a:chOff x="2782440" y="3397320"/>
            <a:chExt cx="4839120" cy="678960"/>
          </a:xfrm>
        </p:grpSpPr>
        <p:grpSp>
          <p:nvGrpSpPr>
            <p:cNvPr id="1361" name="组合 38"/>
            <p:cNvGrpSpPr/>
            <p:nvPr/>
          </p:nvGrpSpPr>
          <p:grpSpPr>
            <a:xfrm>
              <a:off x="6132240" y="3397320"/>
              <a:ext cx="1489320" cy="665280"/>
              <a:chOff x="6132240" y="3397320"/>
              <a:chExt cx="1489320" cy="665280"/>
            </a:xfrm>
          </p:grpSpPr>
          <p:sp>
            <p:nvSpPr>
              <p:cNvPr id="1362" name="文本框 40"/>
              <p:cNvSpPr/>
              <p:nvPr/>
            </p:nvSpPr>
            <p:spPr>
              <a:xfrm>
                <a:off x="6904080" y="3397320"/>
                <a:ext cx="456480" cy="66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宋体"/>
                  </a:rPr>
                  <a:t>○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文本框 41"/>
              <p:cNvSpPr/>
              <p:nvPr/>
            </p:nvSpPr>
            <p:spPr>
              <a:xfrm>
                <a:off x="6132240" y="3397320"/>
                <a:ext cx="456480" cy="66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宋体"/>
                  </a:rPr>
                  <a:t>○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文本框 42"/>
              <p:cNvSpPr/>
              <p:nvPr/>
            </p:nvSpPr>
            <p:spPr>
              <a:xfrm>
                <a:off x="6419880" y="3397320"/>
                <a:ext cx="456480" cy="66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宋体"/>
                  </a:rPr>
                  <a:t>○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文本框 43"/>
              <p:cNvSpPr/>
              <p:nvPr/>
            </p:nvSpPr>
            <p:spPr>
              <a:xfrm>
                <a:off x="6664680" y="3397320"/>
                <a:ext cx="456480" cy="66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宋体"/>
                  </a:rPr>
                  <a:t>○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文本框 44"/>
              <p:cNvSpPr/>
              <p:nvPr/>
            </p:nvSpPr>
            <p:spPr>
              <a:xfrm>
                <a:off x="7165080" y="3397320"/>
                <a:ext cx="456480" cy="66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宋体"/>
                  </a:rPr>
                  <a:t>○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7" name="组合 47"/>
            <p:cNvGrpSpPr/>
            <p:nvPr/>
          </p:nvGrpSpPr>
          <p:grpSpPr>
            <a:xfrm>
              <a:off x="2782440" y="3411000"/>
              <a:ext cx="1489320" cy="665280"/>
              <a:chOff x="2782440" y="3411000"/>
              <a:chExt cx="1489320" cy="665280"/>
            </a:xfrm>
          </p:grpSpPr>
          <p:sp>
            <p:nvSpPr>
              <p:cNvPr id="1368" name="文本框 48"/>
              <p:cNvSpPr/>
              <p:nvPr/>
            </p:nvSpPr>
            <p:spPr>
              <a:xfrm>
                <a:off x="3554280" y="3411000"/>
                <a:ext cx="456480" cy="66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宋体"/>
                  </a:rPr>
                  <a:t>○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文本框 49"/>
              <p:cNvSpPr/>
              <p:nvPr/>
            </p:nvSpPr>
            <p:spPr>
              <a:xfrm>
                <a:off x="2782440" y="3411000"/>
                <a:ext cx="456480" cy="66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宋体"/>
                  </a:rPr>
                  <a:t>○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文本框 50"/>
              <p:cNvSpPr/>
              <p:nvPr/>
            </p:nvSpPr>
            <p:spPr>
              <a:xfrm>
                <a:off x="3070080" y="3411000"/>
                <a:ext cx="456480" cy="66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宋体"/>
                  </a:rPr>
                  <a:t>○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文本框 51"/>
              <p:cNvSpPr/>
              <p:nvPr/>
            </p:nvSpPr>
            <p:spPr>
              <a:xfrm>
                <a:off x="3314880" y="3411000"/>
                <a:ext cx="456480" cy="66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宋体"/>
                  </a:rPr>
                  <a:t>○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文本框 52"/>
              <p:cNvSpPr/>
              <p:nvPr/>
            </p:nvSpPr>
            <p:spPr>
              <a:xfrm>
                <a:off x="3815280" y="3411000"/>
                <a:ext cx="456480" cy="66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宋体"/>
                  </a:rPr>
                  <a:t>○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组合 53"/>
            <p:cNvGrpSpPr/>
            <p:nvPr/>
          </p:nvGrpSpPr>
          <p:grpSpPr>
            <a:xfrm>
              <a:off x="4512600" y="3397320"/>
              <a:ext cx="1489320" cy="665280"/>
              <a:chOff x="4512600" y="3397320"/>
              <a:chExt cx="1489320" cy="665280"/>
            </a:xfrm>
          </p:grpSpPr>
          <p:sp>
            <p:nvSpPr>
              <p:cNvPr id="1374" name="文本框 54"/>
              <p:cNvSpPr/>
              <p:nvPr/>
            </p:nvSpPr>
            <p:spPr>
              <a:xfrm>
                <a:off x="5284440" y="3397320"/>
                <a:ext cx="456480" cy="66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宋体"/>
                  </a:rPr>
                  <a:t>○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文本框 55"/>
              <p:cNvSpPr/>
              <p:nvPr/>
            </p:nvSpPr>
            <p:spPr>
              <a:xfrm>
                <a:off x="4512600" y="3397320"/>
                <a:ext cx="456480" cy="66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宋体"/>
                  </a:rPr>
                  <a:t>○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文本框 56"/>
              <p:cNvSpPr/>
              <p:nvPr/>
            </p:nvSpPr>
            <p:spPr>
              <a:xfrm>
                <a:off x="4800240" y="3397320"/>
                <a:ext cx="456480" cy="66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宋体"/>
                  </a:rPr>
                  <a:t>○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文本框 57"/>
              <p:cNvSpPr/>
              <p:nvPr/>
            </p:nvSpPr>
            <p:spPr>
              <a:xfrm>
                <a:off x="5045040" y="3397320"/>
                <a:ext cx="456480" cy="66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宋体"/>
                  </a:rPr>
                  <a:t>○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文本框 58"/>
              <p:cNvSpPr/>
              <p:nvPr/>
            </p:nvSpPr>
            <p:spPr>
              <a:xfrm>
                <a:off x="5545440" y="3397320"/>
                <a:ext cx="456480" cy="66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0000"/>
                    </a:solidFill>
                    <a:latin typeface="宋体"/>
                  </a:rPr>
                  <a:t>○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9" name="组合 72"/>
          <p:cNvGrpSpPr/>
          <p:nvPr/>
        </p:nvGrpSpPr>
        <p:grpSpPr>
          <a:xfrm>
            <a:off x="2900520" y="4602240"/>
            <a:ext cx="3896640" cy="288720"/>
            <a:chOff x="2900520" y="4602240"/>
            <a:chExt cx="3896640" cy="288720"/>
          </a:xfrm>
        </p:grpSpPr>
        <p:grpSp>
          <p:nvGrpSpPr>
            <p:cNvPr id="1380" name="组合 65"/>
            <p:cNvGrpSpPr/>
            <p:nvPr/>
          </p:nvGrpSpPr>
          <p:grpSpPr>
            <a:xfrm>
              <a:off x="2900520" y="4602240"/>
              <a:ext cx="1814400" cy="288720"/>
              <a:chOff x="2900520" y="4602240"/>
              <a:chExt cx="1814400" cy="288720"/>
            </a:xfrm>
          </p:grpSpPr>
          <p:sp>
            <p:nvSpPr>
              <p:cNvPr id="1381" name="矩形 60"/>
              <p:cNvSpPr/>
              <p:nvPr/>
            </p:nvSpPr>
            <p:spPr>
              <a:xfrm>
                <a:off x="2900520" y="4602240"/>
                <a:ext cx="297000" cy="2887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矩形 61"/>
              <p:cNvSpPr/>
              <p:nvPr/>
            </p:nvSpPr>
            <p:spPr>
              <a:xfrm>
                <a:off x="3276720" y="4602240"/>
                <a:ext cx="288000" cy="2887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矩形 62"/>
              <p:cNvSpPr/>
              <p:nvPr/>
            </p:nvSpPr>
            <p:spPr>
              <a:xfrm>
                <a:off x="3638880" y="4602240"/>
                <a:ext cx="288000" cy="2887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矩形 63"/>
              <p:cNvSpPr/>
              <p:nvPr/>
            </p:nvSpPr>
            <p:spPr>
              <a:xfrm>
                <a:off x="4033080" y="4602240"/>
                <a:ext cx="288000" cy="2887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矩形 64"/>
              <p:cNvSpPr/>
              <p:nvPr/>
            </p:nvSpPr>
            <p:spPr>
              <a:xfrm>
                <a:off x="4426920" y="4602240"/>
                <a:ext cx="288000" cy="2887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6" name="组合 66"/>
            <p:cNvGrpSpPr/>
            <p:nvPr/>
          </p:nvGrpSpPr>
          <p:grpSpPr>
            <a:xfrm>
              <a:off x="4982760" y="4602240"/>
              <a:ext cx="1814400" cy="288720"/>
              <a:chOff x="4982760" y="4602240"/>
              <a:chExt cx="1814400" cy="288720"/>
            </a:xfrm>
          </p:grpSpPr>
          <p:sp>
            <p:nvSpPr>
              <p:cNvPr id="1387" name="矩形 67"/>
              <p:cNvSpPr/>
              <p:nvPr/>
            </p:nvSpPr>
            <p:spPr>
              <a:xfrm>
                <a:off x="4982760" y="4602240"/>
                <a:ext cx="297000" cy="2887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矩形 68"/>
              <p:cNvSpPr/>
              <p:nvPr/>
            </p:nvSpPr>
            <p:spPr>
              <a:xfrm>
                <a:off x="5358960" y="4602240"/>
                <a:ext cx="288000" cy="2887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矩形 69"/>
              <p:cNvSpPr/>
              <p:nvPr/>
            </p:nvSpPr>
            <p:spPr>
              <a:xfrm>
                <a:off x="5721120" y="4602240"/>
                <a:ext cx="288000" cy="2887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矩形 70"/>
              <p:cNvSpPr/>
              <p:nvPr/>
            </p:nvSpPr>
            <p:spPr>
              <a:xfrm>
                <a:off x="6115320" y="4602240"/>
                <a:ext cx="288000" cy="2887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矩形 71"/>
              <p:cNvSpPr/>
              <p:nvPr/>
            </p:nvSpPr>
            <p:spPr>
              <a:xfrm>
                <a:off x="6509160" y="4602240"/>
                <a:ext cx="288000" cy="2887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2" name="文本框 74"/>
          <p:cNvSpPr/>
          <p:nvPr/>
        </p:nvSpPr>
        <p:spPr>
          <a:xfrm>
            <a:off x="7547040" y="5135400"/>
            <a:ext cx="68256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文本框 75"/>
          <p:cNvSpPr/>
          <p:nvPr/>
        </p:nvSpPr>
        <p:spPr>
          <a:xfrm>
            <a:off x="7547040" y="5489640"/>
            <a:ext cx="74448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395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96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397" name="椭圆 1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98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9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0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05" name="文本框 100"/>
          <p:cNvSpPr/>
          <p:nvPr/>
        </p:nvSpPr>
        <p:spPr>
          <a:xfrm>
            <a:off x="365040" y="83340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数一数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6" name="图片 -2147482623" descr="TBRJ-4"/>
          <p:cNvPicPr/>
          <p:nvPr/>
        </p:nvPicPr>
        <p:blipFill>
          <a:blip r:embed="rId8"/>
          <a:stretch/>
        </p:blipFill>
        <p:spPr>
          <a:xfrm>
            <a:off x="1657440" y="1488960"/>
            <a:ext cx="4286160" cy="965160"/>
          </a:xfrm>
          <a:prstGeom prst="rect">
            <a:avLst/>
          </a:prstGeom>
          <a:ln w="0">
            <a:noFill/>
          </a:ln>
        </p:spPr>
      </p:pic>
      <p:sp>
        <p:nvSpPr>
          <p:cNvPr id="1407" name="文本框 1"/>
          <p:cNvSpPr/>
          <p:nvPr/>
        </p:nvSpPr>
        <p:spPr>
          <a:xfrm>
            <a:off x="966960" y="2990880"/>
            <a:ext cx="6646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大小是图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（     ）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大小是图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（     ）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大小是图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（     ）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文本框 18"/>
          <p:cNvSpPr/>
          <p:nvPr/>
        </p:nvSpPr>
        <p:spPr>
          <a:xfrm>
            <a:off x="4716360" y="3157560"/>
            <a:ext cx="4748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文本框 1"/>
          <p:cNvSpPr/>
          <p:nvPr/>
        </p:nvSpPr>
        <p:spPr>
          <a:xfrm>
            <a:off x="4802040" y="3892680"/>
            <a:ext cx="4748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文本框 3"/>
          <p:cNvSpPr/>
          <p:nvPr/>
        </p:nvSpPr>
        <p:spPr>
          <a:xfrm>
            <a:off x="4751280" y="4629240"/>
            <a:ext cx="47484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412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13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414" name="椭圆 1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15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1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0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22" name="文本框 99"/>
          <p:cNvSpPr/>
          <p:nvPr/>
        </p:nvSpPr>
        <p:spPr>
          <a:xfrm>
            <a:off x="179280" y="79056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画一画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文本框 1"/>
          <p:cNvSpPr/>
          <p:nvPr/>
        </p:nvSpPr>
        <p:spPr>
          <a:xfrm>
            <a:off x="785880" y="1308240"/>
            <a:ext cx="5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Oval 2"/>
          <p:cNvSpPr/>
          <p:nvPr/>
        </p:nvSpPr>
        <p:spPr>
          <a:xfrm>
            <a:off x="1596960" y="1468440"/>
            <a:ext cx="228600" cy="19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Oval 2"/>
          <p:cNvSpPr/>
          <p:nvPr/>
        </p:nvSpPr>
        <p:spPr>
          <a:xfrm>
            <a:off x="2179800" y="1468440"/>
            <a:ext cx="228600" cy="19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文本框 4"/>
          <p:cNvSpPr/>
          <p:nvPr/>
        </p:nvSpPr>
        <p:spPr>
          <a:xfrm>
            <a:off x="1127160" y="182736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画  ，是   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AutoShape 4"/>
          <p:cNvSpPr/>
          <p:nvPr/>
        </p:nvSpPr>
        <p:spPr>
          <a:xfrm>
            <a:off x="1612800" y="1994040"/>
            <a:ext cx="212760" cy="1839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Oval 5"/>
          <p:cNvSpPr/>
          <p:nvPr/>
        </p:nvSpPr>
        <p:spPr>
          <a:xfrm>
            <a:off x="2766960" y="1994040"/>
            <a:ext cx="228600" cy="19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文本框 5"/>
          <p:cNvSpPr/>
          <p:nvPr/>
        </p:nvSpPr>
        <p:spPr>
          <a:xfrm>
            <a:off x="4309920" y="2214720"/>
            <a:ext cx="40071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直接连接符 6"/>
          <p:cNvSpPr/>
          <p:nvPr/>
        </p:nvSpPr>
        <p:spPr>
          <a:xfrm>
            <a:off x="4129200" y="2214720"/>
            <a:ext cx="4005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AutoShape 13"/>
          <p:cNvSpPr/>
          <p:nvPr/>
        </p:nvSpPr>
        <p:spPr>
          <a:xfrm>
            <a:off x="1308240" y="2610000"/>
            <a:ext cx="214200" cy="182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文本框 7"/>
          <p:cNvSpPr/>
          <p:nvPr/>
        </p:nvSpPr>
        <p:spPr>
          <a:xfrm>
            <a:off x="1612800" y="2441520"/>
            <a:ext cx="670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个数是（ ）个（ ），列算式是：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文本框 8"/>
          <p:cNvSpPr/>
          <p:nvPr/>
        </p:nvSpPr>
        <p:spPr>
          <a:xfrm>
            <a:off x="1243080" y="3024360"/>
            <a:ext cx="4984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      ）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文本框 9"/>
          <p:cNvSpPr/>
          <p:nvPr/>
        </p:nvSpPr>
        <p:spPr>
          <a:xfrm>
            <a:off x="892080" y="3687840"/>
            <a:ext cx="5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文本框 10"/>
          <p:cNvSpPr/>
          <p:nvPr/>
        </p:nvSpPr>
        <p:spPr>
          <a:xfrm>
            <a:off x="1413000" y="3687840"/>
            <a:ext cx="4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Oval 10"/>
          <p:cNvSpPr/>
          <p:nvPr/>
        </p:nvSpPr>
        <p:spPr>
          <a:xfrm>
            <a:off x="1951200" y="3848040"/>
            <a:ext cx="228600" cy="19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文本框 13"/>
          <p:cNvSpPr/>
          <p:nvPr/>
        </p:nvSpPr>
        <p:spPr>
          <a:xfrm>
            <a:off x="2179800" y="3687840"/>
            <a:ext cx="10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AutoShape 11"/>
          <p:cNvSpPr/>
          <p:nvPr/>
        </p:nvSpPr>
        <p:spPr>
          <a:xfrm>
            <a:off x="2989440" y="3848040"/>
            <a:ext cx="212400" cy="182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文本框 14"/>
          <p:cNvSpPr/>
          <p:nvPr/>
        </p:nvSpPr>
        <p:spPr>
          <a:xfrm>
            <a:off x="3171960" y="3679920"/>
            <a:ext cx="113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直接连接符 15"/>
          <p:cNvSpPr/>
          <p:nvPr/>
        </p:nvSpPr>
        <p:spPr>
          <a:xfrm>
            <a:off x="4425840" y="4130640"/>
            <a:ext cx="40068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Oval 14"/>
          <p:cNvSpPr/>
          <p:nvPr/>
        </p:nvSpPr>
        <p:spPr>
          <a:xfrm>
            <a:off x="1436760" y="4551480"/>
            <a:ext cx="228600" cy="19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文本框 16"/>
          <p:cNvSpPr/>
          <p:nvPr/>
        </p:nvSpPr>
        <p:spPr>
          <a:xfrm>
            <a:off x="1712880" y="4411800"/>
            <a:ext cx="62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个数是（ ）个（ ），列算式是：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文本框 17"/>
          <p:cNvSpPr/>
          <p:nvPr/>
        </p:nvSpPr>
        <p:spPr>
          <a:xfrm>
            <a:off x="1293840" y="4929120"/>
            <a:ext cx="498456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       ）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4" name="组合 14"/>
          <p:cNvGrpSpPr/>
          <p:nvPr/>
        </p:nvGrpSpPr>
        <p:grpSpPr>
          <a:xfrm>
            <a:off x="4425840" y="1952640"/>
            <a:ext cx="2066760" cy="201600"/>
            <a:chOff x="4425840" y="1952640"/>
            <a:chExt cx="2066760" cy="201600"/>
          </a:xfrm>
        </p:grpSpPr>
        <p:grpSp>
          <p:nvGrpSpPr>
            <p:cNvPr id="1445" name="组合 4"/>
            <p:cNvGrpSpPr/>
            <p:nvPr/>
          </p:nvGrpSpPr>
          <p:grpSpPr>
            <a:xfrm>
              <a:off x="4425840" y="1970280"/>
              <a:ext cx="531720" cy="183960"/>
              <a:chOff x="4425840" y="1970280"/>
              <a:chExt cx="531720" cy="183960"/>
            </a:xfrm>
          </p:grpSpPr>
          <p:sp>
            <p:nvSpPr>
              <p:cNvPr id="1446" name="AutoShape 4"/>
              <p:cNvSpPr/>
              <p:nvPr/>
            </p:nvSpPr>
            <p:spPr>
              <a:xfrm>
                <a:off x="4425840" y="1970280"/>
                <a:ext cx="212040" cy="183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AutoShape 4"/>
              <p:cNvSpPr/>
              <p:nvPr/>
            </p:nvSpPr>
            <p:spPr>
              <a:xfrm>
                <a:off x="4745160" y="1970280"/>
                <a:ext cx="212400" cy="183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组合 6"/>
            <p:cNvGrpSpPr/>
            <p:nvPr/>
          </p:nvGrpSpPr>
          <p:grpSpPr>
            <a:xfrm>
              <a:off x="5193360" y="1952640"/>
              <a:ext cx="531720" cy="183960"/>
              <a:chOff x="5193360" y="1952640"/>
              <a:chExt cx="531720" cy="183960"/>
            </a:xfrm>
          </p:grpSpPr>
          <p:sp>
            <p:nvSpPr>
              <p:cNvPr id="1449" name="AutoShape 4"/>
              <p:cNvSpPr/>
              <p:nvPr/>
            </p:nvSpPr>
            <p:spPr>
              <a:xfrm>
                <a:off x="5193360" y="1952640"/>
                <a:ext cx="212040" cy="183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AutoShape 4"/>
              <p:cNvSpPr/>
              <p:nvPr/>
            </p:nvSpPr>
            <p:spPr>
              <a:xfrm>
                <a:off x="5512680" y="1952640"/>
                <a:ext cx="212400" cy="183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组合 9"/>
            <p:cNvGrpSpPr/>
            <p:nvPr/>
          </p:nvGrpSpPr>
          <p:grpSpPr>
            <a:xfrm>
              <a:off x="5960880" y="1970280"/>
              <a:ext cx="531720" cy="183960"/>
              <a:chOff x="5960880" y="1970280"/>
              <a:chExt cx="531720" cy="183960"/>
            </a:xfrm>
          </p:grpSpPr>
          <p:sp>
            <p:nvSpPr>
              <p:cNvPr id="1452" name="AutoShape 4"/>
              <p:cNvSpPr/>
              <p:nvPr/>
            </p:nvSpPr>
            <p:spPr>
              <a:xfrm>
                <a:off x="5960880" y="1970280"/>
                <a:ext cx="212400" cy="183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AutoShape 4"/>
              <p:cNvSpPr/>
              <p:nvPr/>
            </p:nvSpPr>
            <p:spPr>
              <a:xfrm>
                <a:off x="6280200" y="1970280"/>
                <a:ext cx="212400" cy="183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4" name="文本框 18"/>
          <p:cNvSpPr/>
          <p:nvPr/>
        </p:nvSpPr>
        <p:spPr>
          <a:xfrm>
            <a:off x="3429000" y="2273400"/>
            <a:ext cx="47628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Oval 2"/>
          <p:cNvSpPr/>
          <p:nvPr/>
        </p:nvSpPr>
        <p:spPr>
          <a:xfrm>
            <a:off x="4729320" y="2637000"/>
            <a:ext cx="228600" cy="19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文本框 16"/>
          <p:cNvSpPr/>
          <p:nvPr/>
        </p:nvSpPr>
        <p:spPr>
          <a:xfrm>
            <a:off x="1892160" y="3008160"/>
            <a:ext cx="10940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7" name="组合 38"/>
          <p:cNvGrpSpPr/>
          <p:nvPr/>
        </p:nvGrpSpPr>
        <p:grpSpPr>
          <a:xfrm>
            <a:off x="4746600" y="3832200"/>
            <a:ext cx="1207800" cy="214200"/>
            <a:chOff x="4746600" y="3832200"/>
            <a:chExt cx="1207800" cy="214200"/>
          </a:xfrm>
        </p:grpSpPr>
        <p:sp>
          <p:nvSpPr>
            <p:cNvPr id="1458" name="Oval 2"/>
            <p:cNvSpPr/>
            <p:nvPr/>
          </p:nvSpPr>
          <p:spPr>
            <a:xfrm>
              <a:off x="4746600" y="3832200"/>
              <a:ext cx="228240" cy="19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Oval 2"/>
            <p:cNvSpPr/>
            <p:nvPr/>
          </p:nvSpPr>
          <p:spPr>
            <a:xfrm>
              <a:off x="5031360" y="3848040"/>
              <a:ext cx="228240" cy="19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Oval 2"/>
            <p:cNvSpPr/>
            <p:nvPr/>
          </p:nvSpPr>
          <p:spPr>
            <a:xfrm>
              <a:off x="5406480" y="3848040"/>
              <a:ext cx="228240" cy="19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Oval 2"/>
            <p:cNvSpPr/>
            <p:nvPr/>
          </p:nvSpPr>
          <p:spPr>
            <a:xfrm>
              <a:off x="5726160" y="3848040"/>
              <a:ext cx="228240" cy="19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2" name="文本框 39"/>
          <p:cNvSpPr/>
          <p:nvPr/>
        </p:nvSpPr>
        <p:spPr>
          <a:xfrm>
            <a:off x="3497400" y="4206960"/>
            <a:ext cx="47628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AutoShape 11"/>
          <p:cNvSpPr/>
          <p:nvPr/>
        </p:nvSpPr>
        <p:spPr>
          <a:xfrm>
            <a:off x="4818240" y="4579920"/>
            <a:ext cx="212400" cy="182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文本框 41"/>
          <p:cNvSpPr/>
          <p:nvPr/>
        </p:nvSpPr>
        <p:spPr>
          <a:xfrm>
            <a:off x="1892160" y="4929120"/>
            <a:ext cx="10940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5" name="组合 1"/>
          <p:cNvGrpSpPr/>
          <p:nvPr/>
        </p:nvGrpSpPr>
        <p:grpSpPr>
          <a:xfrm>
            <a:off x="6076800" y="3817800"/>
            <a:ext cx="1207800" cy="214560"/>
            <a:chOff x="6076800" y="3817800"/>
            <a:chExt cx="1207800" cy="214560"/>
          </a:xfrm>
        </p:grpSpPr>
        <p:sp>
          <p:nvSpPr>
            <p:cNvPr id="1466" name="Oval 2"/>
            <p:cNvSpPr/>
            <p:nvPr/>
          </p:nvSpPr>
          <p:spPr>
            <a:xfrm>
              <a:off x="6076800" y="3817800"/>
              <a:ext cx="228240" cy="19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Oval 2"/>
            <p:cNvSpPr/>
            <p:nvPr/>
          </p:nvSpPr>
          <p:spPr>
            <a:xfrm>
              <a:off x="6361560" y="3833640"/>
              <a:ext cx="228240" cy="19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Oval 2"/>
            <p:cNvSpPr/>
            <p:nvPr/>
          </p:nvSpPr>
          <p:spPr>
            <a:xfrm>
              <a:off x="6736680" y="3833640"/>
              <a:ext cx="228240" cy="19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Oval 2"/>
            <p:cNvSpPr/>
            <p:nvPr/>
          </p:nvSpPr>
          <p:spPr>
            <a:xfrm>
              <a:off x="7056360" y="3833640"/>
              <a:ext cx="228240" cy="19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0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471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72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473" name="椭圆 1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74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76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7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8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9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0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81" name="文本框 99"/>
          <p:cNvSpPr/>
          <p:nvPr/>
        </p:nvSpPr>
        <p:spPr>
          <a:xfrm>
            <a:off x="425520" y="907920"/>
            <a:ext cx="841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3040" indent="-20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五、小汽车准乘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，大客车准乘的人数是小汽车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，大客车准乘多少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文本框 1"/>
          <p:cNvSpPr/>
          <p:nvPr/>
        </p:nvSpPr>
        <p:spPr>
          <a:xfrm>
            <a:off x="2308320" y="2071800"/>
            <a:ext cx="36622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=35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文本框 3"/>
          <p:cNvSpPr/>
          <p:nvPr/>
        </p:nvSpPr>
        <p:spPr>
          <a:xfrm>
            <a:off x="1695600" y="3146400"/>
            <a:ext cx="3995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答：大客车准乘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5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485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86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487" name="椭圆 1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88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9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95" name="文本框 99"/>
          <p:cNvSpPr/>
          <p:nvPr/>
        </p:nvSpPr>
        <p:spPr>
          <a:xfrm>
            <a:off x="179280" y="874800"/>
            <a:ext cx="8285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3040" indent="-20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六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校合唱队有男生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，女生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，女生人数是男生的几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校合唱队有男生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，女生比男生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，女生人数是男生的几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文本框 1"/>
          <p:cNvSpPr/>
          <p:nvPr/>
        </p:nvSpPr>
        <p:spPr>
          <a:xfrm>
            <a:off x="2908440" y="1922400"/>
            <a:ext cx="1724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6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÷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文本框 3"/>
          <p:cNvSpPr/>
          <p:nvPr/>
        </p:nvSpPr>
        <p:spPr>
          <a:xfrm>
            <a:off x="2790720" y="4384800"/>
            <a:ext cx="1724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+27=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文本框 4"/>
          <p:cNvSpPr/>
          <p:nvPr/>
        </p:nvSpPr>
        <p:spPr>
          <a:xfrm>
            <a:off x="2790720" y="5146560"/>
            <a:ext cx="1724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6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÷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文本框 5"/>
          <p:cNvSpPr/>
          <p:nvPr/>
        </p:nvSpPr>
        <p:spPr>
          <a:xfrm>
            <a:off x="1793880" y="2730600"/>
            <a:ext cx="52070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答：女生人数是男生的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文本框 6"/>
          <p:cNvSpPr/>
          <p:nvPr/>
        </p:nvSpPr>
        <p:spPr>
          <a:xfrm>
            <a:off x="1320840" y="5784840"/>
            <a:ext cx="52070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答：女生人数是男生的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Text Box 15"/>
          <p:cNvSpPr/>
          <p:nvPr/>
        </p:nvSpPr>
        <p:spPr>
          <a:xfrm>
            <a:off x="1692360" y="32148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（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 ）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16"/>
          <p:cNvSpPr/>
          <p:nvPr/>
        </p:nvSpPr>
        <p:spPr>
          <a:xfrm>
            <a:off x="5607000" y="32148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18"/>
          <p:cNvSpPr/>
          <p:nvPr/>
        </p:nvSpPr>
        <p:spPr>
          <a:xfrm>
            <a:off x="1984320" y="32148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20"/>
          <p:cNvSpPr/>
          <p:nvPr/>
        </p:nvSpPr>
        <p:spPr>
          <a:xfrm>
            <a:off x="6005520" y="32148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3" name="Group 42"/>
          <p:cNvGrpSpPr/>
          <p:nvPr/>
        </p:nvGrpSpPr>
        <p:grpSpPr>
          <a:xfrm>
            <a:off x="1332000" y="1198440"/>
            <a:ext cx="2355840" cy="1764000"/>
            <a:chOff x="1332000" y="1198440"/>
            <a:chExt cx="2355840" cy="1764000"/>
          </a:xfrm>
        </p:grpSpPr>
        <p:pic>
          <p:nvPicPr>
            <p:cNvPr id="1014" name="Picture 21" descr="67"/>
            <p:cNvPicPr/>
            <p:nvPr/>
          </p:nvPicPr>
          <p:blipFill>
            <a:blip r:embed="rId8"/>
            <a:stretch/>
          </p:blipFill>
          <p:spPr>
            <a:xfrm>
              <a:off x="1332000" y="2065320"/>
              <a:ext cx="795240" cy="89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5" name="Picture 22" descr="67"/>
            <p:cNvPicPr/>
            <p:nvPr/>
          </p:nvPicPr>
          <p:blipFill>
            <a:blip r:embed="rId9"/>
            <a:stretch/>
          </p:blipFill>
          <p:spPr>
            <a:xfrm>
              <a:off x="1332000" y="1198440"/>
              <a:ext cx="795240" cy="89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23" descr="67"/>
            <p:cNvPicPr/>
            <p:nvPr/>
          </p:nvPicPr>
          <p:blipFill>
            <a:blip r:embed="rId10"/>
            <a:stretch/>
          </p:blipFill>
          <p:spPr>
            <a:xfrm>
              <a:off x="2892600" y="2065320"/>
              <a:ext cx="795240" cy="89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7" name="Picture 24" descr="67"/>
            <p:cNvPicPr/>
            <p:nvPr/>
          </p:nvPicPr>
          <p:blipFill>
            <a:blip r:embed="rId11"/>
            <a:stretch/>
          </p:blipFill>
          <p:spPr>
            <a:xfrm>
              <a:off x="2892600" y="1198440"/>
              <a:ext cx="795240" cy="89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8" name="Group 52"/>
          <p:cNvGrpSpPr/>
          <p:nvPr/>
        </p:nvGrpSpPr>
        <p:grpSpPr>
          <a:xfrm>
            <a:off x="4908600" y="1609560"/>
            <a:ext cx="3047760" cy="1244520"/>
            <a:chOff x="4908600" y="1609560"/>
            <a:chExt cx="3047760" cy="1244520"/>
          </a:xfrm>
        </p:grpSpPr>
        <p:grpSp>
          <p:nvGrpSpPr>
            <p:cNvPr id="1019" name="Group 46"/>
            <p:cNvGrpSpPr/>
            <p:nvPr/>
          </p:nvGrpSpPr>
          <p:grpSpPr>
            <a:xfrm>
              <a:off x="4908600" y="1609560"/>
              <a:ext cx="1295280" cy="1244520"/>
              <a:chOff x="4908600" y="1609560"/>
              <a:chExt cx="1295280" cy="1244520"/>
            </a:xfrm>
          </p:grpSpPr>
          <p:pic>
            <p:nvPicPr>
              <p:cNvPr id="1020" name="Picture 30" descr="68"/>
              <p:cNvPicPr/>
              <p:nvPr/>
            </p:nvPicPr>
            <p:blipFill>
              <a:blip r:embed="rId12"/>
              <a:stretch/>
            </p:blipFill>
            <p:spPr>
              <a:xfrm>
                <a:off x="4908600" y="1609560"/>
                <a:ext cx="662040" cy="62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1" name="Picture 43" descr="68"/>
              <p:cNvPicPr/>
              <p:nvPr/>
            </p:nvPicPr>
            <p:blipFill>
              <a:blip r:embed="rId13"/>
              <a:stretch/>
            </p:blipFill>
            <p:spPr>
              <a:xfrm>
                <a:off x="5541840" y="1609560"/>
                <a:ext cx="662040" cy="62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2" name="Picture 44" descr="68"/>
              <p:cNvPicPr/>
              <p:nvPr/>
            </p:nvPicPr>
            <p:blipFill>
              <a:blip r:embed="rId14"/>
              <a:stretch/>
            </p:blipFill>
            <p:spPr>
              <a:xfrm>
                <a:off x="4908600" y="2228400"/>
                <a:ext cx="662040" cy="62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3" name="Picture 45" descr="68"/>
              <p:cNvPicPr/>
              <p:nvPr/>
            </p:nvPicPr>
            <p:blipFill>
              <a:blip r:embed="rId15"/>
              <a:stretch/>
            </p:blipFill>
            <p:spPr>
              <a:xfrm>
                <a:off x="5541840" y="2228400"/>
                <a:ext cx="662040" cy="625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4" name="Group 47"/>
            <p:cNvGrpSpPr/>
            <p:nvPr/>
          </p:nvGrpSpPr>
          <p:grpSpPr>
            <a:xfrm>
              <a:off x="6661080" y="1609560"/>
              <a:ext cx="1295280" cy="1244520"/>
              <a:chOff x="6661080" y="1609560"/>
              <a:chExt cx="1295280" cy="1244520"/>
            </a:xfrm>
          </p:grpSpPr>
          <p:pic>
            <p:nvPicPr>
              <p:cNvPr id="1025" name="Picture 48" descr="68"/>
              <p:cNvPicPr/>
              <p:nvPr/>
            </p:nvPicPr>
            <p:blipFill>
              <a:blip r:embed="rId16"/>
              <a:stretch/>
            </p:blipFill>
            <p:spPr>
              <a:xfrm>
                <a:off x="6661080" y="1609560"/>
                <a:ext cx="662040" cy="62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6" name="Picture 49" descr="68"/>
              <p:cNvPicPr/>
              <p:nvPr/>
            </p:nvPicPr>
            <p:blipFill>
              <a:blip r:embed="rId17"/>
              <a:stretch/>
            </p:blipFill>
            <p:spPr>
              <a:xfrm>
                <a:off x="7294320" y="1609560"/>
                <a:ext cx="662040" cy="62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7" name="Picture 50" descr="68"/>
              <p:cNvPicPr/>
              <p:nvPr/>
            </p:nvPicPr>
            <p:blipFill>
              <a:blip r:embed="rId18"/>
              <a:stretch/>
            </p:blipFill>
            <p:spPr>
              <a:xfrm>
                <a:off x="6661080" y="2228400"/>
                <a:ext cx="662040" cy="62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8" name="Picture 51" descr="68"/>
              <p:cNvPicPr/>
              <p:nvPr/>
            </p:nvPicPr>
            <p:blipFill>
              <a:blip r:embed="rId19"/>
              <a:stretch/>
            </p:blipFill>
            <p:spPr>
              <a:xfrm>
                <a:off x="7294320" y="2228400"/>
                <a:ext cx="662040" cy="625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29" name="组合 3"/>
          <p:cNvGrpSpPr/>
          <p:nvPr/>
        </p:nvGrpSpPr>
        <p:grpSpPr>
          <a:xfrm>
            <a:off x="538200" y="4092480"/>
            <a:ext cx="4851000" cy="1244520"/>
            <a:chOff x="538200" y="4092480"/>
            <a:chExt cx="4851000" cy="1244520"/>
          </a:xfrm>
        </p:grpSpPr>
        <p:sp>
          <p:nvSpPr>
            <p:cNvPr id="1030" name="AutoShape 27"/>
            <p:cNvSpPr/>
            <p:nvPr/>
          </p:nvSpPr>
          <p:spPr>
            <a:xfrm>
              <a:off x="2129040" y="4092480"/>
              <a:ext cx="3260160" cy="891000"/>
            </a:xfrm>
            <a:prstGeom prst="wedgeRoundRectCallout">
              <a:avLst>
                <a:gd name="adj1" fmla="val -58995"/>
                <a:gd name="adj2" fmla="val -472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谁能很快地说出每幅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有几个几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1" name="图片 7" descr="6)5][}VZ%@FXJ)FA]TI76$O"/>
            <p:cNvPicPr/>
            <p:nvPr/>
          </p:nvPicPr>
          <p:blipFill>
            <a:blip r:embed="rId20"/>
            <a:stretch/>
          </p:blipFill>
          <p:spPr>
            <a:xfrm>
              <a:off x="538200" y="4092480"/>
              <a:ext cx="1166400" cy="1244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33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4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35" name="椭圆 1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6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7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9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0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1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2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43" name="八边形 1"/>
          <p:cNvSpPr/>
          <p:nvPr/>
        </p:nvSpPr>
        <p:spPr>
          <a:xfrm>
            <a:off x="324000" y="1004760"/>
            <a:ext cx="514080" cy="51768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圆角矩形 25"/>
          <p:cNvSpPr/>
          <p:nvPr/>
        </p:nvSpPr>
        <p:spPr>
          <a:xfrm>
            <a:off x="1573200" y="747720"/>
            <a:ext cx="1523880" cy="1038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b0f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5" name="Picture 62" descr="69"/>
          <p:cNvPicPr/>
          <p:nvPr/>
        </p:nvPicPr>
        <p:blipFill>
          <a:blip r:embed="rId8"/>
          <a:stretch/>
        </p:blipFill>
        <p:spPr>
          <a:xfrm>
            <a:off x="1787400" y="1033560"/>
            <a:ext cx="1076400" cy="5140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74" descr="70"/>
          <p:cNvPicPr/>
          <p:nvPr/>
        </p:nvPicPr>
        <p:blipFill>
          <a:blip r:embed="rId9"/>
          <a:stretch/>
        </p:blipFill>
        <p:spPr>
          <a:xfrm>
            <a:off x="5592600" y="2087640"/>
            <a:ext cx="1195560" cy="7858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75" descr="70"/>
          <p:cNvPicPr/>
          <p:nvPr/>
        </p:nvPicPr>
        <p:blipFill>
          <a:blip r:embed="rId10"/>
          <a:stretch/>
        </p:blipFill>
        <p:spPr>
          <a:xfrm>
            <a:off x="3697200" y="2087640"/>
            <a:ext cx="1162080" cy="7635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76" descr="70"/>
          <p:cNvPicPr/>
          <p:nvPr/>
        </p:nvPicPr>
        <p:blipFill>
          <a:blip r:embed="rId11"/>
          <a:stretch/>
        </p:blipFill>
        <p:spPr>
          <a:xfrm>
            <a:off x="1716120" y="2147760"/>
            <a:ext cx="1104840" cy="725760"/>
          </a:xfrm>
          <a:prstGeom prst="rect">
            <a:avLst/>
          </a:prstGeom>
          <a:ln w="0">
            <a:noFill/>
          </a:ln>
        </p:spPr>
      </p:pic>
      <p:sp>
        <p:nvSpPr>
          <p:cNvPr id="1049" name="圆角矩形 25"/>
          <p:cNvSpPr/>
          <p:nvPr/>
        </p:nvSpPr>
        <p:spPr>
          <a:xfrm>
            <a:off x="1573200" y="1959120"/>
            <a:ext cx="1523880" cy="1038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b05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圆角矩形 25"/>
          <p:cNvSpPr/>
          <p:nvPr/>
        </p:nvSpPr>
        <p:spPr>
          <a:xfrm>
            <a:off x="3502080" y="1959120"/>
            <a:ext cx="1523880" cy="1038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b05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圆角矩形 25"/>
          <p:cNvSpPr/>
          <p:nvPr/>
        </p:nvSpPr>
        <p:spPr>
          <a:xfrm>
            <a:off x="5430960" y="1959120"/>
            <a:ext cx="1523880" cy="1038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b05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Box 21"/>
          <p:cNvSpPr/>
          <p:nvPr/>
        </p:nvSpPr>
        <p:spPr>
          <a:xfrm>
            <a:off x="3430440" y="976320"/>
            <a:ext cx="8575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Box 22"/>
          <p:cNvSpPr/>
          <p:nvPr/>
        </p:nvSpPr>
        <p:spPr>
          <a:xfrm>
            <a:off x="7074000" y="2101680"/>
            <a:ext cx="128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Box 22"/>
          <p:cNvSpPr/>
          <p:nvPr/>
        </p:nvSpPr>
        <p:spPr>
          <a:xfrm>
            <a:off x="3002040" y="6000840"/>
            <a:ext cx="745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  <a:ea typeface="楷体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Box 23"/>
          <p:cNvSpPr/>
          <p:nvPr/>
        </p:nvSpPr>
        <p:spPr>
          <a:xfrm>
            <a:off x="3930480" y="5357880"/>
            <a:ext cx="1000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6" name="组合 51"/>
          <p:cNvGrpSpPr/>
          <p:nvPr/>
        </p:nvGrpSpPr>
        <p:grpSpPr>
          <a:xfrm>
            <a:off x="1359000" y="4013280"/>
            <a:ext cx="7457760" cy="2357280"/>
            <a:chOff x="1359000" y="4013280"/>
            <a:chExt cx="7457760" cy="2357280"/>
          </a:xfrm>
        </p:grpSpPr>
        <p:grpSp>
          <p:nvGrpSpPr>
            <p:cNvPr id="1057" name="组合 45"/>
            <p:cNvGrpSpPr/>
            <p:nvPr/>
          </p:nvGrpSpPr>
          <p:grpSpPr>
            <a:xfrm>
              <a:off x="1359000" y="4084560"/>
              <a:ext cx="7457760" cy="2286000"/>
              <a:chOff x="1359000" y="4084560"/>
              <a:chExt cx="7457760" cy="2286000"/>
            </a:xfrm>
          </p:grpSpPr>
          <p:pic>
            <p:nvPicPr>
              <p:cNvPr id="1058" name="Picture 30" descr="73"/>
              <p:cNvPicPr/>
              <p:nvPr/>
            </p:nvPicPr>
            <p:blipFill>
              <a:blip r:embed="rId12"/>
              <a:stretch/>
            </p:blipFill>
            <p:spPr>
              <a:xfrm flipH="1">
                <a:off x="1572840" y="4084560"/>
                <a:ext cx="1143000" cy="71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9" name="圆角矩形 25"/>
              <p:cNvSpPr/>
              <p:nvPr/>
            </p:nvSpPr>
            <p:spPr>
              <a:xfrm>
                <a:off x="3073320" y="4084560"/>
                <a:ext cx="1000080" cy="85716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00b0f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0" name="Picture 30" descr="73"/>
              <p:cNvPicPr/>
              <p:nvPr/>
            </p:nvPicPr>
            <p:blipFill>
              <a:blip r:embed="rId13"/>
              <a:stretch/>
            </p:blipFill>
            <p:spPr>
              <a:xfrm flipH="1">
                <a:off x="2930040" y="4084560"/>
                <a:ext cx="1143000" cy="85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1" name="Picture 30" descr="73"/>
              <p:cNvPicPr/>
              <p:nvPr/>
            </p:nvPicPr>
            <p:blipFill>
              <a:blip r:embed="rId14"/>
              <a:stretch/>
            </p:blipFill>
            <p:spPr>
              <a:xfrm flipH="1">
                <a:off x="4358880" y="4155840"/>
                <a:ext cx="1143000" cy="71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2" name="Picture 30" descr="73"/>
              <p:cNvPicPr/>
              <p:nvPr/>
            </p:nvPicPr>
            <p:blipFill>
              <a:blip r:embed="rId15"/>
              <a:stretch/>
            </p:blipFill>
            <p:spPr>
              <a:xfrm flipH="1">
                <a:off x="5358960" y="4084560"/>
                <a:ext cx="1143000" cy="71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3" name="Picture 30" descr="73"/>
              <p:cNvPicPr/>
              <p:nvPr/>
            </p:nvPicPr>
            <p:blipFill>
              <a:blip r:embed="rId16"/>
              <a:stretch/>
            </p:blipFill>
            <p:spPr>
              <a:xfrm flipH="1">
                <a:off x="6716160" y="4084560"/>
                <a:ext cx="1143000" cy="715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64" name="Group 47"/>
              <p:cNvGrpSpPr/>
              <p:nvPr/>
            </p:nvGrpSpPr>
            <p:grpSpPr>
              <a:xfrm>
                <a:off x="1359000" y="4890600"/>
                <a:ext cx="7457760" cy="1479960"/>
                <a:chOff x="1359000" y="4890600"/>
                <a:chExt cx="7457760" cy="1479960"/>
              </a:xfrm>
            </p:grpSpPr>
            <p:sp>
              <p:nvSpPr>
                <p:cNvPr id="1065" name="矩形 9"/>
                <p:cNvSpPr/>
                <p:nvPr/>
              </p:nvSpPr>
              <p:spPr>
                <a:xfrm>
                  <a:off x="1359000" y="5207040"/>
                  <a:ext cx="1803240" cy="47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5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圈一圈，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6" name="矩形 11"/>
                <p:cNvSpPr/>
                <p:nvPr/>
              </p:nvSpPr>
              <p:spPr>
                <a:xfrm>
                  <a:off x="4156920" y="5207040"/>
                  <a:ext cx="2068200" cy="47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5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有（  </a:t>
                  </a:r>
                  <a:r>
                    <a:rPr b="0" lang="zh-CN" sz="2500" spc="-1" strike="noStrike">
                      <a:solidFill>
                        <a:srgbClr val="ff0000"/>
                      </a:solidFill>
                      <a:latin typeface="宋体"/>
                      <a:ea typeface="宋体"/>
                    </a:rPr>
                    <a:t>  </a:t>
                  </a:r>
                  <a:r>
                    <a:rPr b="0" lang="zh-CN" sz="25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）个</a:t>
                  </a:r>
                  <a:r>
                    <a:rPr b="0" lang="en-US" sz="2500" spc="-1" strike="noStrike">
                      <a:solidFill>
                        <a:srgbClr val="000000"/>
                      </a:solidFill>
                      <a:latin typeface="宋体"/>
                    </a:rPr>
                    <a:t>2 </a:t>
                  </a:r>
                  <a:r>
                    <a:rPr b="0" lang="zh-CN" sz="25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根，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矩形 13"/>
                <p:cNvSpPr/>
                <p:nvPr/>
              </p:nvSpPr>
              <p:spPr>
                <a:xfrm>
                  <a:off x="6860160" y="5234040"/>
                  <a:ext cx="1956600" cy="47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5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的根数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矩形 15"/>
                <p:cNvSpPr/>
                <p:nvPr/>
              </p:nvSpPr>
              <p:spPr>
                <a:xfrm>
                  <a:off x="2080800" y="5892840"/>
                  <a:ext cx="1946880" cy="47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5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是    的（    ）倍。</a:t>
                  </a:r>
                  <a:endParaRPr b="0" lang="en-US" sz="2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69" name="Picture 36" descr="74"/>
                <p:cNvPicPr/>
                <p:nvPr/>
              </p:nvPicPr>
              <p:blipFill>
                <a:blip r:embed="rId17"/>
                <a:stretch/>
              </p:blipFill>
              <p:spPr>
                <a:xfrm rot="19864800">
                  <a:off x="2558160" y="5154840"/>
                  <a:ext cx="759240" cy="426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0" name="Picture 38" descr="74"/>
                <p:cNvPicPr/>
                <p:nvPr/>
              </p:nvPicPr>
              <p:blipFill>
                <a:blip r:embed="rId18"/>
                <a:stretch/>
              </p:blipFill>
              <p:spPr>
                <a:xfrm rot="19441800">
                  <a:off x="5925960" y="5121000"/>
                  <a:ext cx="961920" cy="541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1" name="Picture 39" descr="72"/>
                <p:cNvPicPr/>
                <p:nvPr/>
              </p:nvPicPr>
              <p:blipFill>
                <a:blip r:embed="rId19"/>
                <a:stretch/>
              </p:blipFill>
              <p:spPr>
                <a:xfrm rot="20014800">
                  <a:off x="1798200" y="5759280"/>
                  <a:ext cx="590760" cy="506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072" name="圆角矩形 25"/>
            <p:cNvSpPr/>
            <p:nvPr/>
          </p:nvSpPr>
          <p:spPr>
            <a:xfrm>
              <a:off x="4287960" y="4084560"/>
              <a:ext cx="1071360" cy="9284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b0f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圆角矩形 25"/>
            <p:cNvSpPr/>
            <p:nvPr/>
          </p:nvSpPr>
          <p:spPr>
            <a:xfrm>
              <a:off x="6716520" y="4013280"/>
              <a:ext cx="1071360" cy="10000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b0f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圆角矩形 25"/>
            <p:cNvSpPr/>
            <p:nvPr/>
          </p:nvSpPr>
          <p:spPr>
            <a:xfrm>
              <a:off x="1716120" y="4013280"/>
              <a:ext cx="928440" cy="1000080"/>
            </a:xfrm>
            <a:custGeom>
              <a:avLst/>
              <a:gdLst>
                <a:gd name="textAreaLeft" fmla="*/ 45000 w 928440"/>
                <a:gd name="textAreaRight" fmla="*/ 883440 w 928440"/>
                <a:gd name="textAreaTop" fmla="*/ 45000 h 1000080"/>
                <a:gd name="textAreaBottom" fmla="*/ 955080 h 1000080"/>
              </a:gdLst>
              <a:ahLst/>
              <a:rect l="textAreaLeft" t="textAreaTop" r="textAreaRight" b="textAreaBottom"/>
              <a:pathLst>
                <a:path w="21600" h="23266">
                  <a:moveTo>
                    <a:pt x="3600" y="0"/>
                  </a:moveTo>
                  <a:arcTo wR="3600" hR="3600" stAng="16200000" swAng="-5400000"/>
                  <a:lnTo>
                    <a:pt x="0" y="19666"/>
                  </a:lnTo>
                  <a:arcTo wR="3600" hR="3600" stAng="10800000" swAng="-5400000"/>
                  <a:lnTo>
                    <a:pt x="18000" y="232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00b0f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圆角矩形 25"/>
            <p:cNvSpPr/>
            <p:nvPr/>
          </p:nvSpPr>
          <p:spPr>
            <a:xfrm>
              <a:off x="5430960" y="4013280"/>
              <a:ext cx="1143000" cy="10000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b0f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6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77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8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79" name="椭圆 1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0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1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2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3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4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5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6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87" name="Picture 2" descr="D:\我的文档-桌面-收藏夹\桌面\235097-13062R03J297副本.jpg"/>
          <p:cNvPicPr/>
          <p:nvPr/>
        </p:nvPicPr>
        <p:blipFill>
          <a:blip r:embed="rId8"/>
          <a:stretch/>
        </p:blipFill>
        <p:spPr>
          <a:xfrm>
            <a:off x="3359160" y="928800"/>
            <a:ext cx="3087720" cy="2071440"/>
          </a:xfrm>
          <a:prstGeom prst="rect">
            <a:avLst/>
          </a:prstGeom>
          <a:ln w="0">
            <a:noFill/>
          </a:ln>
        </p:spPr>
      </p:pic>
      <p:sp>
        <p:nvSpPr>
          <p:cNvPr id="1088" name="AutoShape 27"/>
          <p:cNvSpPr/>
          <p:nvPr/>
        </p:nvSpPr>
        <p:spPr>
          <a:xfrm>
            <a:off x="930240" y="1143000"/>
            <a:ext cx="2214720" cy="714240"/>
          </a:xfrm>
          <a:prstGeom prst="wedgeRoundRectCallout">
            <a:avLst>
              <a:gd name="adj1" fmla="val 63277"/>
              <a:gd name="adj2" fmla="val 1194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扫地的有</a:t>
            </a:r>
            <a:r>
              <a:rPr b="0" lang="en-US" sz="2500" spc="-1" strike="noStrike">
                <a:solidFill>
                  <a:srgbClr val="1c1c1c"/>
                </a:solidFill>
                <a:latin typeface="宋体"/>
              </a:rPr>
              <a:t>4</a:t>
            </a: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人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AutoShape 27"/>
          <p:cNvSpPr/>
          <p:nvPr/>
        </p:nvSpPr>
        <p:spPr>
          <a:xfrm>
            <a:off x="6216480" y="932040"/>
            <a:ext cx="2571840" cy="714240"/>
          </a:xfrm>
          <a:prstGeom prst="wedgeRoundRectCallout">
            <a:avLst>
              <a:gd name="adj1" fmla="val -58421"/>
              <a:gd name="adj2" fmla="val 3215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擦桌椅的有</a:t>
            </a:r>
            <a:r>
              <a:rPr b="0" lang="en-US" sz="2500" spc="-1" strike="noStrike">
                <a:solidFill>
                  <a:srgbClr val="1c1c1c"/>
                </a:solidFill>
                <a:latin typeface="宋体"/>
              </a:rPr>
              <a:t>12</a:t>
            </a: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人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Box 6"/>
          <p:cNvSpPr/>
          <p:nvPr/>
        </p:nvSpPr>
        <p:spPr>
          <a:xfrm>
            <a:off x="1144440" y="2786040"/>
            <a:ext cx="44294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擦桌椅的人数是扫地的几倍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八边形 4"/>
          <p:cNvSpPr/>
          <p:nvPr/>
        </p:nvSpPr>
        <p:spPr>
          <a:xfrm>
            <a:off x="179280" y="928800"/>
            <a:ext cx="514440" cy="51732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Box 3"/>
          <p:cNvSpPr/>
          <p:nvPr/>
        </p:nvSpPr>
        <p:spPr>
          <a:xfrm>
            <a:off x="439560" y="3549600"/>
            <a:ext cx="3492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6d86a4"/>
                </a:solidFill>
                <a:latin typeface="Arial"/>
                <a:ea typeface="宋体"/>
              </a:rPr>
              <a:t>阅读与理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3" name=""/>
          <p:cNvGraphicFramePr/>
          <p:nvPr/>
        </p:nvGraphicFramePr>
        <p:xfrm>
          <a:off x="1144440" y="4280040"/>
          <a:ext cx="4803840" cy="1279440"/>
        </p:xfrm>
        <a:graphic>
          <a:graphicData uri="http://schemas.openxmlformats.org/drawingml/2006/table">
            <a:tbl>
              <a:tblPr/>
              <a:tblGrid>
                <a:gridCol w="1182600"/>
                <a:gridCol w="3621240"/>
              </a:tblGrid>
              <a:tr h="63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已知条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扫地的有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人，擦桌椅的有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人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7fbd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所求问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擦桌椅的人数是扫地的几倍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95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6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97" name="椭圆 1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8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05" name="TextBox 3"/>
          <p:cNvSpPr/>
          <p:nvPr/>
        </p:nvSpPr>
        <p:spPr>
          <a:xfrm>
            <a:off x="968400" y="928800"/>
            <a:ext cx="3492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70c0"/>
                </a:solidFill>
                <a:latin typeface="Arial"/>
                <a:ea typeface="宋体"/>
              </a:rPr>
              <a:t>分析与解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 Box 10"/>
          <p:cNvSpPr/>
          <p:nvPr/>
        </p:nvSpPr>
        <p:spPr>
          <a:xfrm>
            <a:off x="1585800" y="2952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擦桌椅的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 Box 13"/>
          <p:cNvSpPr/>
          <p:nvPr/>
        </p:nvSpPr>
        <p:spPr>
          <a:xfrm>
            <a:off x="1784520" y="38322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扫地的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Arc 15"/>
          <p:cNvSpPr/>
          <p:nvPr/>
        </p:nvSpPr>
        <p:spPr>
          <a:xfrm rot="10380000">
            <a:off x="2758680" y="3233520"/>
            <a:ext cx="1411200" cy="523800"/>
          </a:xfrm>
          <a:custGeom>
            <a:avLst/>
            <a:gdLst/>
            <a:ahLst/>
            <a:rect l="l" t="t" r="r" b="b"/>
            <a:pathLst>
              <a:path fill="none" w="33115" h="21600">
                <a:moveTo>
                  <a:pt x="-1" y="4759"/>
                </a:moveTo>
                <a:cubicBezTo>
                  <a:pt x="3834" y="1679"/>
                  <a:pt x="8606" y="-1"/>
                  <a:pt x="13526" y="0"/>
                </a:cubicBezTo>
                <a:cubicBezTo>
                  <a:pt x="21931" y="0"/>
                  <a:pt x="29574" y="4876"/>
                  <a:pt x="33115" y="12499"/>
                </a:cubicBezTo>
              </a:path>
              <a:path stroke="0" w="33115" h="21600">
                <a:moveTo>
                  <a:pt x="-1" y="4759"/>
                </a:moveTo>
                <a:cubicBezTo>
                  <a:pt x="3834" y="1679"/>
                  <a:pt x="8606" y="-1"/>
                  <a:pt x="13526" y="0"/>
                </a:cubicBezTo>
                <a:cubicBezTo>
                  <a:pt x="21931" y="0"/>
                  <a:pt x="29574" y="4876"/>
                  <a:pt x="33115" y="12499"/>
                </a:cubicBezTo>
                <a:lnTo>
                  <a:pt x="13526" y="21600"/>
                </a:lnTo>
                <a:lnTo>
                  <a:pt x="-1" y="4759"/>
                </a:ln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21"/>
          <p:cNvSpPr/>
          <p:nvPr/>
        </p:nvSpPr>
        <p:spPr>
          <a:xfrm>
            <a:off x="2517840" y="5592600"/>
            <a:ext cx="22478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12÷4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宋体"/>
              </a:rPr>
              <a:t>＝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Arc 15"/>
          <p:cNvSpPr/>
          <p:nvPr/>
        </p:nvSpPr>
        <p:spPr>
          <a:xfrm rot="10380000">
            <a:off x="4660920" y="3231720"/>
            <a:ext cx="1440000" cy="523800"/>
          </a:xfrm>
          <a:custGeom>
            <a:avLst/>
            <a:gdLst/>
            <a:ahLst/>
            <a:rect l="l" t="t" r="r" b="b"/>
            <a:pathLst>
              <a:path fill="none" w="33115" h="21600">
                <a:moveTo>
                  <a:pt x="-1" y="4759"/>
                </a:moveTo>
                <a:cubicBezTo>
                  <a:pt x="3834" y="1679"/>
                  <a:pt x="8606" y="-1"/>
                  <a:pt x="13526" y="0"/>
                </a:cubicBezTo>
                <a:cubicBezTo>
                  <a:pt x="21931" y="0"/>
                  <a:pt x="29574" y="4876"/>
                  <a:pt x="33115" y="12499"/>
                </a:cubicBezTo>
              </a:path>
              <a:path stroke="0" w="33115" h="21600">
                <a:moveTo>
                  <a:pt x="-1" y="4759"/>
                </a:moveTo>
                <a:cubicBezTo>
                  <a:pt x="3834" y="1679"/>
                  <a:pt x="8606" y="-1"/>
                  <a:pt x="13526" y="0"/>
                </a:cubicBezTo>
                <a:cubicBezTo>
                  <a:pt x="21931" y="0"/>
                  <a:pt x="29574" y="4876"/>
                  <a:pt x="33115" y="12499"/>
                </a:cubicBezTo>
                <a:lnTo>
                  <a:pt x="13526" y="21600"/>
                </a:lnTo>
                <a:lnTo>
                  <a:pt x="-1" y="4759"/>
                </a:ln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1" name="组合 16443"/>
          <p:cNvGrpSpPr/>
          <p:nvPr/>
        </p:nvGrpSpPr>
        <p:grpSpPr>
          <a:xfrm>
            <a:off x="2556000" y="2854440"/>
            <a:ext cx="5658840" cy="647640"/>
            <a:chOff x="2556000" y="2854440"/>
            <a:chExt cx="5658840" cy="647640"/>
          </a:xfrm>
        </p:grpSpPr>
        <p:pic>
          <p:nvPicPr>
            <p:cNvPr id="1112" name="Picture 23" descr="79"/>
            <p:cNvPicPr/>
            <p:nvPr/>
          </p:nvPicPr>
          <p:blipFill>
            <a:blip r:embed="rId8"/>
            <a:stretch/>
          </p:blipFill>
          <p:spPr>
            <a:xfrm>
              <a:off x="2556000" y="2854440"/>
              <a:ext cx="41256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3" name="Picture 58" descr="79"/>
            <p:cNvPicPr/>
            <p:nvPr/>
          </p:nvPicPr>
          <p:blipFill>
            <a:blip r:embed="rId9"/>
            <a:stretch/>
          </p:blipFill>
          <p:spPr>
            <a:xfrm>
              <a:off x="3017880" y="2854440"/>
              <a:ext cx="4122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4" name="Picture 59" descr="79"/>
            <p:cNvPicPr/>
            <p:nvPr/>
          </p:nvPicPr>
          <p:blipFill>
            <a:blip r:embed="rId10"/>
            <a:stretch/>
          </p:blipFill>
          <p:spPr>
            <a:xfrm>
              <a:off x="3490920" y="2854440"/>
              <a:ext cx="4122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5" name="Picture 60" descr="79"/>
            <p:cNvPicPr/>
            <p:nvPr/>
          </p:nvPicPr>
          <p:blipFill>
            <a:blip r:embed="rId11"/>
            <a:stretch/>
          </p:blipFill>
          <p:spPr>
            <a:xfrm>
              <a:off x="3976560" y="2854440"/>
              <a:ext cx="41256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6" name="Picture 23" descr="79"/>
            <p:cNvPicPr/>
            <p:nvPr/>
          </p:nvPicPr>
          <p:blipFill>
            <a:blip r:embed="rId12"/>
            <a:stretch/>
          </p:blipFill>
          <p:spPr>
            <a:xfrm>
              <a:off x="4460760" y="2854440"/>
              <a:ext cx="41256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7" name="Picture 58" descr="79"/>
            <p:cNvPicPr/>
            <p:nvPr/>
          </p:nvPicPr>
          <p:blipFill>
            <a:blip r:embed="rId13"/>
            <a:stretch/>
          </p:blipFill>
          <p:spPr>
            <a:xfrm>
              <a:off x="4932360" y="2854440"/>
              <a:ext cx="4122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59" descr="79"/>
            <p:cNvPicPr/>
            <p:nvPr/>
          </p:nvPicPr>
          <p:blipFill>
            <a:blip r:embed="rId14"/>
            <a:stretch/>
          </p:blipFill>
          <p:spPr>
            <a:xfrm>
              <a:off x="5405400" y="2854440"/>
              <a:ext cx="4122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9" name="Picture 60" descr="79"/>
            <p:cNvPicPr/>
            <p:nvPr/>
          </p:nvPicPr>
          <p:blipFill>
            <a:blip r:embed="rId15"/>
            <a:stretch/>
          </p:blipFill>
          <p:spPr>
            <a:xfrm>
              <a:off x="5891040" y="2854440"/>
              <a:ext cx="41256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0" name="Picture 23" descr="79"/>
            <p:cNvPicPr/>
            <p:nvPr/>
          </p:nvPicPr>
          <p:blipFill>
            <a:blip r:embed="rId16"/>
            <a:stretch/>
          </p:blipFill>
          <p:spPr>
            <a:xfrm>
              <a:off x="6381720" y="2854440"/>
              <a:ext cx="4122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1" name="Picture 58" descr="79"/>
            <p:cNvPicPr/>
            <p:nvPr/>
          </p:nvPicPr>
          <p:blipFill>
            <a:blip r:embed="rId17"/>
            <a:stretch/>
          </p:blipFill>
          <p:spPr>
            <a:xfrm>
              <a:off x="6843600" y="2854440"/>
              <a:ext cx="41256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2" name="Picture 59" descr="79"/>
            <p:cNvPicPr/>
            <p:nvPr/>
          </p:nvPicPr>
          <p:blipFill>
            <a:blip r:embed="rId18"/>
            <a:stretch/>
          </p:blipFill>
          <p:spPr>
            <a:xfrm>
              <a:off x="7316640" y="2854440"/>
              <a:ext cx="41256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3" name="Picture 60" descr="79"/>
            <p:cNvPicPr/>
            <p:nvPr/>
          </p:nvPicPr>
          <p:blipFill>
            <a:blip r:embed="rId19"/>
            <a:stretch/>
          </p:blipFill>
          <p:spPr>
            <a:xfrm>
              <a:off x="7802640" y="2854440"/>
              <a:ext cx="412200" cy="64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4" name="组合 16441"/>
          <p:cNvGrpSpPr/>
          <p:nvPr/>
        </p:nvGrpSpPr>
        <p:grpSpPr>
          <a:xfrm>
            <a:off x="2556000" y="3790800"/>
            <a:ext cx="1833480" cy="647640"/>
            <a:chOff x="2556000" y="3790800"/>
            <a:chExt cx="1833480" cy="647640"/>
          </a:xfrm>
        </p:grpSpPr>
        <p:pic>
          <p:nvPicPr>
            <p:cNvPr id="1125" name="Picture 23" descr="79"/>
            <p:cNvPicPr/>
            <p:nvPr/>
          </p:nvPicPr>
          <p:blipFill>
            <a:blip r:embed="rId20"/>
            <a:stretch/>
          </p:blipFill>
          <p:spPr>
            <a:xfrm>
              <a:off x="2556000" y="3790800"/>
              <a:ext cx="41292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6" name="Picture 58" descr="79"/>
            <p:cNvPicPr/>
            <p:nvPr/>
          </p:nvPicPr>
          <p:blipFill>
            <a:blip r:embed="rId21"/>
            <a:stretch/>
          </p:blipFill>
          <p:spPr>
            <a:xfrm>
              <a:off x="3017880" y="3790800"/>
              <a:ext cx="41292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7" name="Picture 59" descr="79"/>
            <p:cNvPicPr/>
            <p:nvPr/>
          </p:nvPicPr>
          <p:blipFill>
            <a:blip r:embed="rId22"/>
            <a:stretch/>
          </p:blipFill>
          <p:spPr>
            <a:xfrm>
              <a:off x="3491280" y="3790800"/>
              <a:ext cx="41256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8" name="Picture 60" descr="79"/>
            <p:cNvPicPr/>
            <p:nvPr/>
          </p:nvPicPr>
          <p:blipFill>
            <a:blip r:embed="rId23"/>
            <a:stretch/>
          </p:blipFill>
          <p:spPr>
            <a:xfrm>
              <a:off x="3976920" y="3790800"/>
              <a:ext cx="412560" cy="64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9" name="Arc 15"/>
          <p:cNvSpPr/>
          <p:nvPr/>
        </p:nvSpPr>
        <p:spPr>
          <a:xfrm rot="10380000">
            <a:off x="6586200" y="3225600"/>
            <a:ext cx="1411200" cy="523800"/>
          </a:xfrm>
          <a:custGeom>
            <a:avLst/>
            <a:gdLst/>
            <a:ahLst/>
            <a:rect l="l" t="t" r="r" b="b"/>
            <a:pathLst>
              <a:path fill="none" w="33115" h="21600">
                <a:moveTo>
                  <a:pt x="-1" y="4759"/>
                </a:moveTo>
                <a:cubicBezTo>
                  <a:pt x="3834" y="1679"/>
                  <a:pt x="8606" y="-1"/>
                  <a:pt x="13526" y="0"/>
                </a:cubicBezTo>
                <a:cubicBezTo>
                  <a:pt x="21931" y="0"/>
                  <a:pt x="29574" y="4876"/>
                  <a:pt x="33115" y="12499"/>
                </a:cubicBezTo>
              </a:path>
              <a:path stroke="0" w="33115" h="21600">
                <a:moveTo>
                  <a:pt x="-1" y="4759"/>
                </a:moveTo>
                <a:cubicBezTo>
                  <a:pt x="3834" y="1679"/>
                  <a:pt x="8606" y="-1"/>
                  <a:pt x="13526" y="0"/>
                </a:cubicBezTo>
                <a:cubicBezTo>
                  <a:pt x="21931" y="0"/>
                  <a:pt x="29574" y="4876"/>
                  <a:pt x="33115" y="12499"/>
                </a:cubicBezTo>
                <a:lnTo>
                  <a:pt x="13526" y="21600"/>
                </a:lnTo>
                <a:lnTo>
                  <a:pt x="-1" y="4759"/>
                </a:ln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组合 3"/>
          <p:cNvGrpSpPr/>
          <p:nvPr/>
        </p:nvGrpSpPr>
        <p:grpSpPr>
          <a:xfrm>
            <a:off x="2771640" y="1565280"/>
            <a:ext cx="5722560" cy="1035000"/>
            <a:chOff x="2771640" y="1565280"/>
            <a:chExt cx="5722560" cy="1035000"/>
          </a:xfrm>
        </p:grpSpPr>
        <p:sp>
          <p:nvSpPr>
            <p:cNvPr id="1131" name="AutoShape 27"/>
            <p:cNvSpPr/>
            <p:nvPr/>
          </p:nvSpPr>
          <p:spPr>
            <a:xfrm>
              <a:off x="2771640" y="1703160"/>
              <a:ext cx="4392720" cy="891000"/>
            </a:xfrm>
            <a:prstGeom prst="wedgeRoundRectCallout">
              <a:avLst>
                <a:gd name="adj1" fmla="val 56717"/>
                <a:gd name="adj2" fmla="val -432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我画了一张示意图，能清楚地看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擦桌椅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人数是扫地的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倍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2" name="图片 7" descr="6)5][}VZ%@FXJ)FA]TI76$O"/>
            <p:cNvPicPr/>
            <p:nvPr/>
          </p:nvPicPr>
          <p:blipFill>
            <a:blip r:embed="rId24"/>
            <a:stretch/>
          </p:blipFill>
          <p:spPr>
            <a:xfrm>
              <a:off x="7521120" y="1565280"/>
              <a:ext cx="973080" cy="103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3" name="组合 5"/>
          <p:cNvGrpSpPr/>
          <p:nvPr/>
        </p:nvGrpSpPr>
        <p:grpSpPr>
          <a:xfrm>
            <a:off x="556920" y="4502160"/>
            <a:ext cx="6100560" cy="1365120"/>
            <a:chOff x="556920" y="4502160"/>
            <a:chExt cx="6100560" cy="1365120"/>
          </a:xfrm>
        </p:grpSpPr>
        <p:sp>
          <p:nvSpPr>
            <p:cNvPr id="1134" name="AutoShape 27"/>
            <p:cNvSpPr/>
            <p:nvPr/>
          </p:nvSpPr>
          <p:spPr>
            <a:xfrm>
              <a:off x="1760400" y="4618080"/>
              <a:ext cx="4897080" cy="891000"/>
            </a:xfrm>
            <a:prstGeom prst="wedgeRoundRectCallout">
              <a:avLst>
                <a:gd name="adj1" fmla="val -55634"/>
                <a:gd name="adj2" fmla="val 686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要求擦桌椅的人数是扫地的几倍，就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求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里面有几个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，用除法计算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5" name="图片 4" descr="_4`F[E$PX4I}_~SSZVJ7V4J"/>
            <p:cNvPicPr/>
            <p:nvPr/>
          </p:nvPicPr>
          <p:blipFill>
            <a:blip r:embed="rId25"/>
            <a:stretch/>
          </p:blipFill>
          <p:spPr>
            <a:xfrm flipH="1">
              <a:off x="556920" y="4502160"/>
              <a:ext cx="900360" cy="136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6" name="八边形 6"/>
          <p:cNvSpPr/>
          <p:nvPr/>
        </p:nvSpPr>
        <p:spPr>
          <a:xfrm>
            <a:off x="179280" y="771480"/>
            <a:ext cx="514440" cy="51768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7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38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9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40" name="椭圆 1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1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2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148" name="Picture 2" descr="D:\我的文档-桌面-收藏夹\桌面\235097-13062R03J297副本.jpg"/>
          <p:cNvPicPr/>
          <p:nvPr/>
        </p:nvPicPr>
        <p:blipFill>
          <a:blip r:embed="rId8"/>
          <a:stretch/>
        </p:blipFill>
        <p:spPr>
          <a:xfrm>
            <a:off x="3359160" y="928800"/>
            <a:ext cx="3087720" cy="2071440"/>
          </a:xfrm>
          <a:prstGeom prst="rect">
            <a:avLst/>
          </a:prstGeom>
          <a:ln w="0">
            <a:noFill/>
          </a:ln>
        </p:spPr>
      </p:pic>
      <p:sp>
        <p:nvSpPr>
          <p:cNvPr id="1149" name="AutoShape 27"/>
          <p:cNvSpPr/>
          <p:nvPr/>
        </p:nvSpPr>
        <p:spPr>
          <a:xfrm>
            <a:off x="930240" y="1143000"/>
            <a:ext cx="2214720" cy="714240"/>
          </a:xfrm>
          <a:prstGeom prst="wedgeRoundRectCallout">
            <a:avLst>
              <a:gd name="adj1" fmla="val 63277"/>
              <a:gd name="adj2" fmla="val 1194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扫地的有</a:t>
            </a:r>
            <a:r>
              <a:rPr b="0" lang="en-US" sz="2500" spc="-1" strike="noStrike">
                <a:solidFill>
                  <a:srgbClr val="1c1c1c"/>
                </a:solidFill>
                <a:latin typeface="宋体"/>
              </a:rPr>
              <a:t>4</a:t>
            </a: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人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27"/>
          <p:cNvSpPr/>
          <p:nvPr/>
        </p:nvSpPr>
        <p:spPr>
          <a:xfrm>
            <a:off x="6216480" y="932040"/>
            <a:ext cx="2571840" cy="714240"/>
          </a:xfrm>
          <a:prstGeom prst="wedgeRoundRectCallout">
            <a:avLst>
              <a:gd name="adj1" fmla="val -58421"/>
              <a:gd name="adj2" fmla="val 3215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擦桌椅的有</a:t>
            </a:r>
            <a:r>
              <a:rPr b="0" lang="en-US" sz="2500" spc="-1" strike="noStrike">
                <a:solidFill>
                  <a:srgbClr val="1c1c1c"/>
                </a:solidFill>
                <a:latin typeface="宋体"/>
              </a:rPr>
              <a:t>12</a:t>
            </a: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人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Box 6"/>
          <p:cNvSpPr/>
          <p:nvPr/>
        </p:nvSpPr>
        <p:spPr>
          <a:xfrm>
            <a:off x="1144440" y="2786040"/>
            <a:ext cx="44294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擦桌椅的人数是扫地的几倍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八边形 4"/>
          <p:cNvSpPr/>
          <p:nvPr/>
        </p:nvSpPr>
        <p:spPr>
          <a:xfrm>
            <a:off x="179280" y="928800"/>
            <a:ext cx="514440" cy="51732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Box 3"/>
          <p:cNvSpPr/>
          <p:nvPr/>
        </p:nvSpPr>
        <p:spPr>
          <a:xfrm>
            <a:off x="907920" y="3576600"/>
            <a:ext cx="245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4f81bd"/>
                </a:solidFill>
                <a:latin typeface="宋体"/>
                <a:ea typeface="宋体"/>
              </a:rPr>
              <a:t>回顾与反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 Box 8"/>
          <p:cNvSpPr/>
          <p:nvPr/>
        </p:nvSpPr>
        <p:spPr>
          <a:xfrm>
            <a:off x="1314360" y="5448240"/>
            <a:ext cx="532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答：</a:t>
            </a:r>
            <a:r>
              <a:rPr b="0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擦桌椅的人数是扫地的</a:t>
            </a:r>
            <a:r>
              <a:rPr b="0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3</a:t>
            </a:r>
            <a:r>
              <a:rPr b="0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5" name="组合 1"/>
          <p:cNvGrpSpPr/>
          <p:nvPr/>
        </p:nvGrpSpPr>
        <p:grpSpPr>
          <a:xfrm>
            <a:off x="1525680" y="3929040"/>
            <a:ext cx="6294240" cy="1254240"/>
            <a:chOff x="1525680" y="3929040"/>
            <a:chExt cx="6294240" cy="1254240"/>
          </a:xfrm>
        </p:grpSpPr>
        <p:sp>
          <p:nvSpPr>
            <p:cNvPr id="1156" name="AutoShape 27"/>
            <p:cNvSpPr/>
            <p:nvPr/>
          </p:nvSpPr>
          <p:spPr>
            <a:xfrm>
              <a:off x="1525680" y="4230360"/>
              <a:ext cx="4714920" cy="924120"/>
            </a:xfrm>
            <a:prstGeom prst="wedgeRoundRectCallout">
              <a:avLst>
                <a:gd name="adj1" fmla="val 54893"/>
                <a:gd name="adj2" fmla="val 1335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扫地的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4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人，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4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3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倍是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2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正好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是擦桌椅的人数，解答正确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7" name="图片 7" descr="6)5][}VZ%@FXJ)FA]TI76$O"/>
            <p:cNvPicPr/>
            <p:nvPr/>
          </p:nvPicPr>
          <p:blipFill>
            <a:blip r:embed="rId9"/>
            <a:stretch/>
          </p:blipFill>
          <p:spPr>
            <a:xfrm>
              <a:off x="6642720" y="3929040"/>
              <a:ext cx="1177200" cy="12542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组合 2"/>
          <p:cNvGrpSpPr/>
          <p:nvPr/>
        </p:nvGrpSpPr>
        <p:grpSpPr>
          <a:xfrm>
            <a:off x="0" y="101520"/>
            <a:ext cx="2790720" cy="525600"/>
            <a:chOff x="0" y="101520"/>
            <a:chExt cx="2790720" cy="525600"/>
          </a:xfrm>
        </p:grpSpPr>
        <p:pic>
          <p:nvPicPr>
            <p:cNvPr id="1159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25640" y="101520"/>
              <a:ext cx="266508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0" name="组合 4"/>
            <p:cNvGrpSpPr/>
            <p:nvPr/>
          </p:nvGrpSpPr>
          <p:grpSpPr>
            <a:xfrm>
              <a:off x="0" y="196560"/>
              <a:ext cx="368280" cy="273960"/>
              <a:chOff x="0" y="196560"/>
              <a:chExt cx="368280" cy="273960"/>
            </a:xfrm>
          </p:grpSpPr>
          <p:sp>
            <p:nvSpPr>
              <p:cNvPr id="1161" name="椭圆 11"/>
              <p:cNvSpPr/>
              <p:nvPr/>
            </p:nvSpPr>
            <p:spPr>
              <a:xfrm rot="16200000">
                <a:off x="229320" y="364320"/>
                <a:ext cx="9576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2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167040" y="339840"/>
                <a:ext cx="201240" cy="12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3" name="椭圆 29"/>
              <p:cNvSpPr/>
              <p:nvPr/>
            </p:nvSpPr>
            <p:spPr>
              <a:xfrm rot="16200000">
                <a:off x="229320" y="241560"/>
                <a:ext cx="9576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67040" y="212760"/>
                <a:ext cx="201240" cy="12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58200"/>
                <a:ext cx="297360" cy="11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26160"/>
                <a:ext cx="297360" cy="11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8240"/>
                <a:ext cx="297360" cy="11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297360" cy="112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69" name="圆角矩形 3"/>
          <p:cNvSpPr/>
          <p:nvPr/>
        </p:nvSpPr>
        <p:spPr>
          <a:xfrm>
            <a:off x="542880" y="49320"/>
            <a:ext cx="2071800" cy="714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文本框 8"/>
          <p:cNvSpPr/>
          <p:nvPr/>
        </p:nvSpPr>
        <p:spPr>
          <a:xfrm>
            <a:off x="1211400" y="1119240"/>
            <a:ext cx="68515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认识倍和求一个数是另一个数的几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文本框 9"/>
          <p:cNvSpPr/>
          <p:nvPr/>
        </p:nvSpPr>
        <p:spPr>
          <a:xfrm>
            <a:off x="542880" y="1752480"/>
            <a:ext cx="818820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个数里含有几个另一个数，这个数就是另一个数的几倍。要求一个数是另一个数的几倍，也就是求一个数里有几个另一个数，用除法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2" name="组合 2"/>
          <p:cNvGrpSpPr/>
          <p:nvPr/>
        </p:nvGrpSpPr>
        <p:grpSpPr>
          <a:xfrm>
            <a:off x="41400" y="123840"/>
            <a:ext cx="3244680" cy="525600"/>
            <a:chOff x="41400" y="123840"/>
            <a:chExt cx="3244680" cy="525600"/>
          </a:xfrm>
        </p:grpSpPr>
        <p:pic>
          <p:nvPicPr>
            <p:cNvPr id="1173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91880" y="12384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74" name="组合 4"/>
            <p:cNvGrpSpPr/>
            <p:nvPr/>
          </p:nvGrpSpPr>
          <p:grpSpPr>
            <a:xfrm>
              <a:off x="41400" y="219600"/>
              <a:ext cx="429840" cy="271800"/>
              <a:chOff x="41400" y="219600"/>
              <a:chExt cx="429840" cy="271800"/>
            </a:xfrm>
          </p:grpSpPr>
          <p:sp>
            <p:nvSpPr>
              <p:cNvPr id="1175" name="椭圆 11"/>
              <p:cNvSpPr/>
              <p:nvPr/>
            </p:nvSpPr>
            <p:spPr>
              <a:xfrm rot="16200000">
                <a:off x="284400" y="38232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6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259560" y="34596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7" name="椭圆 29"/>
              <p:cNvSpPr/>
              <p:nvPr/>
            </p:nvSpPr>
            <p:spPr>
              <a:xfrm rot="16200000">
                <a:off x="284400" y="25632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59560" y="23400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9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41400" y="3621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0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41400" y="3340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1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41400" y="24732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2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41400" y="2196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83" name="Group 14"/>
          <p:cNvGrpSpPr/>
          <p:nvPr/>
        </p:nvGrpSpPr>
        <p:grpSpPr>
          <a:xfrm>
            <a:off x="347760" y="1150920"/>
            <a:ext cx="1244520" cy="360360"/>
            <a:chOff x="347760" y="1150920"/>
            <a:chExt cx="1244520" cy="360360"/>
          </a:xfrm>
        </p:grpSpPr>
        <p:sp>
          <p:nvSpPr>
            <p:cNvPr id="1184" name="椭圆 12"/>
            <p:cNvSpPr/>
            <p:nvPr/>
          </p:nvSpPr>
          <p:spPr>
            <a:xfrm>
              <a:off x="347760" y="1150920"/>
              <a:ext cx="358920" cy="360360"/>
            </a:xfrm>
            <a:prstGeom prst="ellips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椭圆 13"/>
            <p:cNvSpPr/>
            <p:nvPr/>
          </p:nvSpPr>
          <p:spPr>
            <a:xfrm>
              <a:off x="790560" y="1150920"/>
              <a:ext cx="362160" cy="360360"/>
            </a:xfrm>
            <a:prstGeom prst="ellips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椭圆 14"/>
            <p:cNvSpPr/>
            <p:nvPr/>
          </p:nvSpPr>
          <p:spPr>
            <a:xfrm>
              <a:off x="1233720" y="1150920"/>
              <a:ext cx="358560" cy="360360"/>
            </a:xfrm>
            <a:prstGeom prst="ellipse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7" name="Group 75"/>
          <p:cNvGrpSpPr/>
          <p:nvPr/>
        </p:nvGrpSpPr>
        <p:grpSpPr>
          <a:xfrm>
            <a:off x="347760" y="1851120"/>
            <a:ext cx="1244520" cy="360360"/>
            <a:chOff x="347760" y="1851120"/>
            <a:chExt cx="1244520" cy="360360"/>
          </a:xfrm>
        </p:grpSpPr>
        <p:sp>
          <p:nvSpPr>
            <p:cNvPr id="1188" name="椭圆 12"/>
            <p:cNvSpPr/>
            <p:nvPr/>
          </p:nvSpPr>
          <p:spPr>
            <a:xfrm>
              <a:off x="347760" y="1851120"/>
              <a:ext cx="358920" cy="3603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椭圆 13"/>
            <p:cNvSpPr/>
            <p:nvPr/>
          </p:nvSpPr>
          <p:spPr>
            <a:xfrm>
              <a:off x="790560" y="1851120"/>
              <a:ext cx="362160" cy="3603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椭圆 14"/>
            <p:cNvSpPr/>
            <p:nvPr/>
          </p:nvSpPr>
          <p:spPr>
            <a:xfrm>
              <a:off x="1233720" y="1851120"/>
              <a:ext cx="358560" cy="3603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1" name="Group 76"/>
          <p:cNvGrpSpPr/>
          <p:nvPr/>
        </p:nvGrpSpPr>
        <p:grpSpPr>
          <a:xfrm>
            <a:off x="1857240" y="1851120"/>
            <a:ext cx="1244520" cy="360360"/>
            <a:chOff x="1857240" y="1851120"/>
            <a:chExt cx="1244520" cy="360360"/>
          </a:xfrm>
        </p:grpSpPr>
        <p:sp>
          <p:nvSpPr>
            <p:cNvPr id="1192" name="椭圆 12"/>
            <p:cNvSpPr/>
            <p:nvPr/>
          </p:nvSpPr>
          <p:spPr>
            <a:xfrm>
              <a:off x="1857240" y="1851120"/>
              <a:ext cx="358920" cy="3603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椭圆 13"/>
            <p:cNvSpPr/>
            <p:nvPr/>
          </p:nvSpPr>
          <p:spPr>
            <a:xfrm>
              <a:off x="2300040" y="1851120"/>
              <a:ext cx="362160" cy="3603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椭圆 14"/>
            <p:cNvSpPr/>
            <p:nvPr/>
          </p:nvSpPr>
          <p:spPr>
            <a:xfrm>
              <a:off x="2743200" y="1851120"/>
              <a:ext cx="358560" cy="3603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5" name="Group 80"/>
          <p:cNvGrpSpPr/>
          <p:nvPr/>
        </p:nvGrpSpPr>
        <p:grpSpPr>
          <a:xfrm>
            <a:off x="3348000" y="1851120"/>
            <a:ext cx="1244520" cy="360360"/>
            <a:chOff x="3348000" y="1851120"/>
            <a:chExt cx="1244520" cy="360360"/>
          </a:xfrm>
        </p:grpSpPr>
        <p:sp>
          <p:nvSpPr>
            <p:cNvPr id="1196" name="椭圆 12"/>
            <p:cNvSpPr/>
            <p:nvPr/>
          </p:nvSpPr>
          <p:spPr>
            <a:xfrm>
              <a:off x="3348000" y="1851120"/>
              <a:ext cx="358920" cy="3603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椭圆 13"/>
            <p:cNvSpPr/>
            <p:nvPr/>
          </p:nvSpPr>
          <p:spPr>
            <a:xfrm>
              <a:off x="3790800" y="1851120"/>
              <a:ext cx="362160" cy="3603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椭圆 14"/>
            <p:cNvSpPr/>
            <p:nvPr/>
          </p:nvSpPr>
          <p:spPr>
            <a:xfrm>
              <a:off x="4233960" y="1851120"/>
              <a:ext cx="358560" cy="3603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9" name="Group 84"/>
          <p:cNvGrpSpPr/>
          <p:nvPr/>
        </p:nvGrpSpPr>
        <p:grpSpPr>
          <a:xfrm>
            <a:off x="347760" y="2589120"/>
            <a:ext cx="1244520" cy="360360"/>
            <a:chOff x="347760" y="2589120"/>
            <a:chExt cx="1244520" cy="360360"/>
          </a:xfrm>
        </p:grpSpPr>
        <p:sp>
          <p:nvSpPr>
            <p:cNvPr id="1200" name="椭圆 12"/>
            <p:cNvSpPr/>
            <p:nvPr/>
          </p:nvSpPr>
          <p:spPr>
            <a:xfrm>
              <a:off x="347760" y="2589120"/>
              <a:ext cx="358920" cy="360360"/>
            </a:xfrm>
            <a:prstGeom prst="ellipse">
              <a:avLst/>
            </a:prstGeom>
            <a:solidFill>
              <a:srgbClr val="196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椭圆 13"/>
            <p:cNvSpPr/>
            <p:nvPr/>
          </p:nvSpPr>
          <p:spPr>
            <a:xfrm>
              <a:off x="790560" y="2589120"/>
              <a:ext cx="362160" cy="360360"/>
            </a:xfrm>
            <a:prstGeom prst="ellipse">
              <a:avLst/>
            </a:prstGeom>
            <a:solidFill>
              <a:srgbClr val="196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椭圆 14"/>
            <p:cNvSpPr/>
            <p:nvPr/>
          </p:nvSpPr>
          <p:spPr>
            <a:xfrm>
              <a:off x="1233720" y="2589120"/>
              <a:ext cx="358560" cy="360360"/>
            </a:xfrm>
            <a:prstGeom prst="ellipse">
              <a:avLst/>
            </a:prstGeom>
            <a:solidFill>
              <a:srgbClr val="196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Group 88"/>
          <p:cNvGrpSpPr/>
          <p:nvPr/>
        </p:nvGrpSpPr>
        <p:grpSpPr>
          <a:xfrm>
            <a:off x="1857240" y="2589120"/>
            <a:ext cx="1244520" cy="360360"/>
            <a:chOff x="1857240" y="2589120"/>
            <a:chExt cx="1244520" cy="360360"/>
          </a:xfrm>
        </p:grpSpPr>
        <p:sp>
          <p:nvSpPr>
            <p:cNvPr id="1204" name="椭圆 12"/>
            <p:cNvSpPr/>
            <p:nvPr/>
          </p:nvSpPr>
          <p:spPr>
            <a:xfrm>
              <a:off x="1857240" y="2589120"/>
              <a:ext cx="358920" cy="360360"/>
            </a:xfrm>
            <a:prstGeom prst="ellipse">
              <a:avLst/>
            </a:prstGeom>
            <a:solidFill>
              <a:srgbClr val="196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椭圆 13"/>
            <p:cNvSpPr/>
            <p:nvPr/>
          </p:nvSpPr>
          <p:spPr>
            <a:xfrm>
              <a:off x="2300040" y="2589120"/>
              <a:ext cx="362160" cy="360360"/>
            </a:xfrm>
            <a:prstGeom prst="ellipse">
              <a:avLst/>
            </a:prstGeom>
            <a:solidFill>
              <a:srgbClr val="196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椭圆 14"/>
            <p:cNvSpPr/>
            <p:nvPr/>
          </p:nvSpPr>
          <p:spPr>
            <a:xfrm>
              <a:off x="2743200" y="2589120"/>
              <a:ext cx="358560" cy="360360"/>
            </a:xfrm>
            <a:prstGeom prst="ellipse">
              <a:avLst/>
            </a:prstGeom>
            <a:solidFill>
              <a:srgbClr val="196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7" name="Group 92"/>
          <p:cNvGrpSpPr/>
          <p:nvPr/>
        </p:nvGrpSpPr>
        <p:grpSpPr>
          <a:xfrm>
            <a:off x="3348000" y="2589120"/>
            <a:ext cx="1244520" cy="360360"/>
            <a:chOff x="3348000" y="2589120"/>
            <a:chExt cx="1244520" cy="360360"/>
          </a:xfrm>
        </p:grpSpPr>
        <p:sp>
          <p:nvSpPr>
            <p:cNvPr id="1208" name="椭圆 12"/>
            <p:cNvSpPr/>
            <p:nvPr/>
          </p:nvSpPr>
          <p:spPr>
            <a:xfrm>
              <a:off x="3348000" y="2589120"/>
              <a:ext cx="358920" cy="360360"/>
            </a:xfrm>
            <a:prstGeom prst="ellipse">
              <a:avLst/>
            </a:prstGeom>
            <a:solidFill>
              <a:srgbClr val="196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椭圆 13"/>
            <p:cNvSpPr/>
            <p:nvPr/>
          </p:nvSpPr>
          <p:spPr>
            <a:xfrm>
              <a:off x="3790800" y="2589120"/>
              <a:ext cx="362160" cy="360360"/>
            </a:xfrm>
            <a:prstGeom prst="ellipse">
              <a:avLst/>
            </a:prstGeom>
            <a:solidFill>
              <a:srgbClr val="196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椭圆 14"/>
            <p:cNvSpPr/>
            <p:nvPr/>
          </p:nvSpPr>
          <p:spPr>
            <a:xfrm>
              <a:off x="4233960" y="2589120"/>
              <a:ext cx="358560" cy="360360"/>
            </a:xfrm>
            <a:prstGeom prst="ellipse">
              <a:avLst/>
            </a:prstGeom>
            <a:solidFill>
              <a:srgbClr val="196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1" name="Group 96"/>
          <p:cNvGrpSpPr/>
          <p:nvPr/>
        </p:nvGrpSpPr>
        <p:grpSpPr>
          <a:xfrm>
            <a:off x="4848120" y="2589120"/>
            <a:ext cx="1244520" cy="360360"/>
            <a:chOff x="4848120" y="2589120"/>
            <a:chExt cx="1244520" cy="360360"/>
          </a:xfrm>
        </p:grpSpPr>
        <p:sp>
          <p:nvSpPr>
            <p:cNvPr id="1212" name="椭圆 12"/>
            <p:cNvSpPr/>
            <p:nvPr/>
          </p:nvSpPr>
          <p:spPr>
            <a:xfrm>
              <a:off x="4848120" y="2589120"/>
              <a:ext cx="358920" cy="360360"/>
            </a:xfrm>
            <a:prstGeom prst="ellipse">
              <a:avLst/>
            </a:prstGeom>
            <a:solidFill>
              <a:srgbClr val="196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椭圆 13"/>
            <p:cNvSpPr/>
            <p:nvPr/>
          </p:nvSpPr>
          <p:spPr>
            <a:xfrm>
              <a:off x="5290920" y="2589120"/>
              <a:ext cx="362160" cy="360360"/>
            </a:xfrm>
            <a:prstGeom prst="ellipse">
              <a:avLst/>
            </a:prstGeom>
            <a:solidFill>
              <a:srgbClr val="196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椭圆 14"/>
            <p:cNvSpPr/>
            <p:nvPr/>
          </p:nvSpPr>
          <p:spPr>
            <a:xfrm>
              <a:off x="5734080" y="2589120"/>
              <a:ext cx="358560" cy="360360"/>
            </a:xfrm>
            <a:prstGeom prst="ellipse">
              <a:avLst/>
            </a:prstGeom>
            <a:solidFill>
              <a:srgbClr val="196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5" name="圆角矩形 19"/>
          <p:cNvSpPr/>
          <p:nvPr/>
        </p:nvSpPr>
        <p:spPr>
          <a:xfrm>
            <a:off x="285840" y="1782720"/>
            <a:ext cx="1368360" cy="4906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993366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圆角矩形 19"/>
          <p:cNvSpPr/>
          <p:nvPr/>
        </p:nvSpPr>
        <p:spPr>
          <a:xfrm>
            <a:off x="1785960" y="1782720"/>
            <a:ext cx="1368360" cy="4906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993366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圆角矩形 19"/>
          <p:cNvSpPr/>
          <p:nvPr/>
        </p:nvSpPr>
        <p:spPr>
          <a:xfrm>
            <a:off x="3286080" y="1781280"/>
            <a:ext cx="1368360" cy="4903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993366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圆角矩形 19"/>
          <p:cNvSpPr/>
          <p:nvPr/>
        </p:nvSpPr>
        <p:spPr>
          <a:xfrm>
            <a:off x="285840" y="2525760"/>
            <a:ext cx="1368360" cy="4903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993366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圆角矩形 19"/>
          <p:cNvSpPr/>
          <p:nvPr/>
        </p:nvSpPr>
        <p:spPr>
          <a:xfrm>
            <a:off x="1785960" y="2525760"/>
            <a:ext cx="1368360" cy="4903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993366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圆角矩形 19"/>
          <p:cNvSpPr/>
          <p:nvPr/>
        </p:nvSpPr>
        <p:spPr>
          <a:xfrm>
            <a:off x="3286080" y="2525760"/>
            <a:ext cx="1368360" cy="4903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993366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圆角矩形 19"/>
          <p:cNvSpPr/>
          <p:nvPr/>
        </p:nvSpPr>
        <p:spPr>
          <a:xfrm>
            <a:off x="4776840" y="2525760"/>
            <a:ext cx="1368360" cy="4903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993366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2" name="Group 92"/>
          <p:cNvGrpSpPr/>
          <p:nvPr/>
        </p:nvGrpSpPr>
        <p:grpSpPr>
          <a:xfrm>
            <a:off x="6276960" y="2589120"/>
            <a:ext cx="1244520" cy="360360"/>
            <a:chOff x="6276960" y="2589120"/>
            <a:chExt cx="1244520" cy="360360"/>
          </a:xfrm>
        </p:grpSpPr>
        <p:sp>
          <p:nvSpPr>
            <p:cNvPr id="1223" name="椭圆 12"/>
            <p:cNvSpPr/>
            <p:nvPr/>
          </p:nvSpPr>
          <p:spPr>
            <a:xfrm>
              <a:off x="6276960" y="2589120"/>
              <a:ext cx="358920" cy="360360"/>
            </a:xfrm>
            <a:prstGeom prst="ellipse">
              <a:avLst/>
            </a:prstGeom>
            <a:solidFill>
              <a:srgbClr val="196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椭圆 13"/>
            <p:cNvSpPr/>
            <p:nvPr/>
          </p:nvSpPr>
          <p:spPr>
            <a:xfrm>
              <a:off x="6719760" y="2589120"/>
              <a:ext cx="362160" cy="360360"/>
            </a:xfrm>
            <a:prstGeom prst="ellipse">
              <a:avLst/>
            </a:prstGeom>
            <a:solidFill>
              <a:srgbClr val="196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椭圆 14"/>
            <p:cNvSpPr/>
            <p:nvPr/>
          </p:nvSpPr>
          <p:spPr>
            <a:xfrm>
              <a:off x="7162920" y="2589120"/>
              <a:ext cx="358560" cy="360360"/>
            </a:xfrm>
            <a:prstGeom prst="ellipse">
              <a:avLst/>
            </a:prstGeom>
            <a:solidFill>
              <a:srgbClr val="196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6" name="Group 96"/>
          <p:cNvGrpSpPr/>
          <p:nvPr/>
        </p:nvGrpSpPr>
        <p:grpSpPr>
          <a:xfrm>
            <a:off x="7777080" y="2589120"/>
            <a:ext cx="1244520" cy="360360"/>
            <a:chOff x="7777080" y="2589120"/>
            <a:chExt cx="1244520" cy="360360"/>
          </a:xfrm>
        </p:grpSpPr>
        <p:sp>
          <p:nvSpPr>
            <p:cNvPr id="1227" name="椭圆 12"/>
            <p:cNvSpPr/>
            <p:nvPr/>
          </p:nvSpPr>
          <p:spPr>
            <a:xfrm>
              <a:off x="7777080" y="2589120"/>
              <a:ext cx="358920" cy="360360"/>
            </a:xfrm>
            <a:prstGeom prst="ellipse">
              <a:avLst/>
            </a:prstGeom>
            <a:solidFill>
              <a:srgbClr val="196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椭圆 13"/>
            <p:cNvSpPr/>
            <p:nvPr/>
          </p:nvSpPr>
          <p:spPr>
            <a:xfrm>
              <a:off x="8219880" y="2589120"/>
              <a:ext cx="362160" cy="360360"/>
            </a:xfrm>
            <a:prstGeom prst="ellipse">
              <a:avLst/>
            </a:prstGeom>
            <a:solidFill>
              <a:srgbClr val="196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椭圆 14"/>
            <p:cNvSpPr/>
            <p:nvPr/>
          </p:nvSpPr>
          <p:spPr>
            <a:xfrm>
              <a:off x="8663040" y="2589120"/>
              <a:ext cx="358560" cy="360360"/>
            </a:xfrm>
            <a:prstGeom prst="ellipse">
              <a:avLst/>
            </a:prstGeom>
            <a:solidFill>
              <a:srgbClr val="196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0" name="圆角矩形 19"/>
          <p:cNvSpPr/>
          <p:nvPr/>
        </p:nvSpPr>
        <p:spPr>
          <a:xfrm>
            <a:off x="6215040" y="2525760"/>
            <a:ext cx="1368360" cy="4903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993366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圆角矩形 19"/>
          <p:cNvSpPr/>
          <p:nvPr/>
        </p:nvSpPr>
        <p:spPr>
          <a:xfrm>
            <a:off x="7705800" y="2525760"/>
            <a:ext cx="1368360" cy="4903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993366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2" name="Group 116"/>
          <p:cNvGrpSpPr/>
          <p:nvPr/>
        </p:nvGrpSpPr>
        <p:grpSpPr>
          <a:xfrm>
            <a:off x="357120" y="3294000"/>
            <a:ext cx="7666920" cy="484560"/>
            <a:chOff x="357120" y="3294000"/>
            <a:chExt cx="7666920" cy="484560"/>
          </a:xfrm>
        </p:grpSpPr>
        <p:sp>
          <p:nvSpPr>
            <p:cNvPr id="1233" name="椭圆 64"/>
            <p:cNvSpPr/>
            <p:nvPr/>
          </p:nvSpPr>
          <p:spPr>
            <a:xfrm>
              <a:off x="4213080" y="3362400"/>
              <a:ext cx="358560" cy="360360"/>
            </a:xfrm>
            <a:prstGeom prst="ellipse">
              <a:avLst/>
            </a:prstGeom>
            <a:solidFill>
              <a:srgbClr val="196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TextBox 65"/>
            <p:cNvSpPr/>
            <p:nvPr/>
          </p:nvSpPr>
          <p:spPr>
            <a:xfrm>
              <a:off x="4795560" y="3303720"/>
              <a:ext cx="942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个数是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椭圆 66"/>
            <p:cNvSpPr/>
            <p:nvPr/>
          </p:nvSpPr>
          <p:spPr>
            <a:xfrm>
              <a:off x="5999040" y="3362400"/>
              <a:ext cx="358560" cy="36036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TextBox 67"/>
            <p:cNvSpPr/>
            <p:nvPr/>
          </p:nvSpPr>
          <p:spPr>
            <a:xfrm>
              <a:off x="6726240" y="3303720"/>
              <a:ext cx="12978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（  ）倍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椭圆 58"/>
            <p:cNvSpPr/>
            <p:nvPr/>
          </p:nvSpPr>
          <p:spPr>
            <a:xfrm>
              <a:off x="357120" y="3365280"/>
              <a:ext cx="361800" cy="3603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TextBox 61"/>
            <p:cNvSpPr/>
            <p:nvPr/>
          </p:nvSpPr>
          <p:spPr>
            <a:xfrm>
              <a:off x="938160" y="3303720"/>
              <a:ext cx="942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个数是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椭圆 62"/>
            <p:cNvSpPr/>
            <p:nvPr/>
          </p:nvSpPr>
          <p:spPr>
            <a:xfrm>
              <a:off x="2066760" y="3362400"/>
              <a:ext cx="361800" cy="36036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TextBox 63"/>
            <p:cNvSpPr/>
            <p:nvPr/>
          </p:nvSpPr>
          <p:spPr>
            <a:xfrm>
              <a:off x="2797200" y="3294000"/>
              <a:ext cx="12978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（  ）倍，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1" name="Text Box 41"/>
          <p:cNvSpPr/>
          <p:nvPr/>
        </p:nvSpPr>
        <p:spPr>
          <a:xfrm>
            <a:off x="3105000" y="3294000"/>
            <a:ext cx="32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ext Box 42"/>
          <p:cNvSpPr/>
          <p:nvPr/>
        </p:nvSpPr>
        <p:spPr>
          <a:xfrm>
            <a:off x="7000920" y="3294000"/>
            <a:ext cx="323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"/>
                            </p:stCondLst>
                            <p:childTnLst>
                              <p:par>
                                <p:cTn id="13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"/>
                            </p:stCondLst>
                            <p:childTnLst>
                              <p:par>
                                <p:cTn id="16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3" name="组合 2"/>
          <p:cNvGrpSpPr/>
          <p:nvPr/>
        </p:nvGrpSpPr>
        <p:grpSpPr>
          <a:xfrm>
            <a:off x="0" y="101520"/>
            <a:ext cx="2790720" cy="525600"/>
            <a:chOff x="0" y="101520"/>
            <a:chExt cx="2790720" cy="525600"/>
          </a:xfrm>
        </p:grpSpPr>
        <p:pic>
          <p:nvPicPr>
            <p:cNvPr id="1244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25640" y="101520"/>
              <a:ext cx="266508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5" name="组合 4"/>
            <p:cNvGrpSpPr/>
            <p:nvPr/>
          </p:nvGrpSpPr>
          <p:grpSpPr>
            <a:xfrm>
              <a:off x="0" y="197280"/>
              <a:ext cx="368280" cy="272160"/>
              <a:chOff x="0" y="197280"/>
              <a:chExt cx="368280" cy="272160"/>
            </a:xfrm>
          </p:grpSpPr>
          <p:sp>
            <p:nvSpPr>
              <p:cNvPr id="1246" name="椭圆 11"/>
              <p:cNvSpPr/>
              <p:nvPr/>
            </p:nvSpPr>
            <p:spPr>
              <a:xfrm rot="16200000">
                <a:off x="229680" y="363600"/>
                <a:ext cx="9504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47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167040" y="339480"/>
                <a:ext cx="201240" cy="12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8" name="椭圆 29"/>
              <p:cNvSpPr/>
              <p:nvPr/>
            </p:nvSpPr>
            <p:spPr>
              <a:xfrm rot="16200000">
                <a:off x="229680" y="241560"/>
                <a:ext cx="9504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49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67040" y="213480"/>
                <a:ext cx="201240" cy="12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0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57840"/>
                <a:ext cx="29736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1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26160"/>
                <a:ext cx="29736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2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8600"/>
                <a:ext cx="29736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3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297360" cy="111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54" name="圆角矩形 3"/>
          <p:cNvSpPr/>
          <p:nvPr/>
        </p:nvSpPr>
        <p:spPr>
          <a:xfrm>
            <a:off x="542880" y="49320"/>
            <a:ext cx="2071800" cy="714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文本框 1"/>
          <p:cNvSpPr/>
          <p:nvPr/>
        </p:nvSpPr>
        <p:spPr>
          <a:xfrm>
            <a:off x="636480" y="927000"/>
            <a:ext cx="53755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奶奶的年龄是小云的几倍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6" name="图片 3" descr="_4`F[E$PX4I}_~SSZVJ7V4J"/>
          <p:cNvPicPr/>
          <p:nvPr/>
        </p:nvPicPr>
        <p:blipFill>
          <a:blip r:embed="rId8"/>
          <a:stretch/>
        </p:blipFill>
        <p:spPr>
          <a:xfrm flipH="1">
            <a:off x="772920" y="2001960"/>
            <a:ext cx="1190520" cy="1805040"/>
          </a:xfrm>
          <a:prstGeom prst="rect">
            <a:avLst/>
          </a:prstGeom>
          <a:ln w="0">
            <a:noFill/>
          </a:ln>
        </p:spPr>
      </p:pic>
      <p:pic>
        <p:nvPicPr>
          <p:cNvPr id="1257" name="图片 4" descr="HNC~09}2G7$AT_VCL4D$4HN"/>
          <p:cNvPicPr/>
          <p:nvPr/>
        </p:nvPicPr>
        <p:blipFill>
          <a:blip r:embed="rId9"/>
          <a:stretch/>
        </p:blipFill>
        <p:spPr>
          <a:xfrm flipH="1">
            <a:off x="6076800" y="2122560"/>
            <a:ext cx="990720" cy="1379520"/>
          </a:xfrm>
          <a:prstGeom prst="rect">
            <a:avLst/>
          </a:prstGeom>
          <a:ln w="0">
            <a:noFill/>
          </a:ln>
        </p:spPr>
      </p:pic>
      <p:pic>
        <p:nvPicPr>
          <p:cNvPr id="1258" name="图片 8" descr="R6PEPN8X6D$W%S4WDXFKZF2"/>
          <p:cNvPicPr/>
          <p:nvPr/>
        </p:nvPicPr>
        <p:blipFill>
          <a:blip r:embed="rId10"/>
          <a:stretch/>
        </p:blipFill>
        <p:spPr>
          <a:xfrm>
            <a:off x="1903320" y="1930320"/>
            <a:ext cx="1676520" cy="1008000"/>
          </a:xfrm>
          <a:prstGeom prst="rect">
            <a:avLst/>
          </a:prstGeom>
          <a:ln w="0">
            <a:noFill/>
          </a:ln>
        </p:spPr>
      </p:pic>
      <p:pic>
        <p:nvPicPr>
          <p:cNvPr id="1259" name="图片 6" descr="R6PEPN8X6D$W%S4WDXFKZF2"/>
          <p:cNvPicPr/>
          <p:nvPr/>
        </p:nvPicPr>
        <p:blipFill>
          <a:blip r:embed="rId11"/>
          <a:stretch/>
        </p:blipFill>
        <p:spPr>
          <a:xfrm>
            <a:off x="4221000" y="2122560"/>
            <a:ext cx="1928880" cy="984240"/>
          </a:xfrm>
          <a:prstGeom prst="rect">
            <a:avLst/>
          </a:prstGeom>
          <a:ln w="0">
            <a:noFill/>
          </a:ln>
        </p:spPr>
      </p:pic>
      <p:sp>
        <p:nvSpPr>
          <p:cNvPr id="1260" name="文本框 7"/>
          <p:cNvSpPr/>
          <p:nvPr/>
        </p:nvSpPr>
        <p:spPr>
          <a:xfrm>
            <a:off x="2193840" y="2057400"/>
            <a:ext cx="13064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我今年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文本框 10"/>
          <p:cNvSpPr/>
          <p:nvPr/>
        </p:nvSpPr>
        <p:spPr>
          <a:xfrm>
            <a:off x="4376880" y="2217600"/>
            <a:ext cx="16239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我今年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5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文本框 13"/>
          <p:cNvSpPr/>
          <p:nvPr/>
        </p:nvSpPr>
        <p:spPr>
          <a:xfrm>
            <a:off x="1636560" y="3205080"/>
            <a:ext cx="9082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文本框 14"/>
          <p:cNvSpPr/>
          <p:nvPr/>
        </p:nvSpPr>
        <p:spPr>
          <a:xfrm>
            <a:off x="5092560" y="3206880"/>
            <a:ext cx="9082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奶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文本框 15"/>
          <p:cNvSpPr/>
          <p:nvPr/>
        </p:nvSpPr>
        <p:spPr>
          <a:xfrm>
            <a:off x="1884240" y="4371840"/>
            <a:ext cx="16956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6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÷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=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文本框 16"/>
          <p:cNvSpPr/>
          <p:nvPr/>
        </p:nvSpPr>
        <p:spPr>
          <a:xfrm>
            <a:off x="895320" y="5187960"/>
            <a:ext cx="44276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答：奶奶的年龄是小云的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6:43:49Z</dcterms:created>
  <dc:creator/>
  <dc:description/>
  <dc:language>en-US</dc:language>
  <cp:lastModifiedBy>万润仪器贸易公司</cp:lastModifiedBy>
  <dcterms:modified xsi:type="dcterms:W3CDTF">2020-08-21T01:22:19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